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6E5E-832C-43B8-98ED-4D915CE65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B0F8-3CA6-47B0-A460-0134259E6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905-A32D-4A1C-8644-C0EE2E4A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546-E6D4-470F-A09A-38EC70D0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54F-CC8C-40BC-ACE2-E9FD0201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1367-F729-4E63-8726-C7AA7DE4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EFB-5203-4AE3-A23A-611CF9FE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CA6B-6219-4566-960D-5D591E64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7C0-4BF7-4B99-8BD1-6CA10758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CCE-5B93-4B7C-A70D-6655EE11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76B5-2F21-4EA1-B76A-910236F7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BF6-C0C2-4CED-8777-E5FF5313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86D-A4A8-4E45-84F4-D4505474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009-9517-4107-92A9-93783FEC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F1AA-37D2-4192-8263-7CEF462E0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d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5: The Holoca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04920" y="1295280"/>
            <a:ext cx="44193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Objectives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understand the role of average Germans in the Holoc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To develop a </a:t>
            </a:r>
            <a:r>
              <a:rPr b="1" lang="ja-JP" sz="2400" spc="-1" strike="noStrike">
                <a:solidFill>
                  <a:srgbClr val="000000"/>
                </a:solidFill>
                <a:latin typeface="Dido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meaning</a:t>
            </a:r>
            <a:r>
              <a:rPr b="1" lang="ja-JP" sz="2400" spc="-1" strike="noStrike">
                <a:solidFill>
                  <a:srgbClr val="000000"/>
                </a:solidFill>
                <a:latin typeface="Didot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 of the Holocaust and why and how it was perpetu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952880" y="1295280"/>
            <a:ext cx="38862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dot"/>
              </a:rPr>
              <a:t>Read “The Decision to Drop the Atomic Bomb” Due: Mon 5/12!  Choose 4 Question/Answers to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5:27:25Z</dcterms:created>
  <dc:creator>Technology Department</dc:creator>
  <dc:description/>
  <dc:language>en-US</dc:language>
  <cp:lastModifiedBy>WPS</cp:lastModifiedBy>
  <dcterms:modified xsi:type="dcterms:W3CDTF">2014-05-05T17:39:48Z</dcterms:modified>
  <cp:revision>10</cp:revision>
  <dc:subject/>
  <dc:title>PowerPoint Presentation</dc:title>
</cp:coreProperties>
</file>