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0F9E-7FD1-4228-9D90-0EE174004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650C-2AAB-4DAA-A14B-97A81827C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CC6-6AC9-487B-B20F-16E45BC9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816-F42E-4849-8A30-80F684D8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ABC-B3E2-467E-BF0C-C1C73EC7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F92-4311-4B37-B672-9861A6B2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43B-1296-452A-9045-627F6E8C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8A9-8177-486E-A2F1-A17A67E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140-7F5F-41E9-A992-7FBA554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42F-9A09-4D5B-ABC2-A9F1D9FB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256-D952-4D4E-9D92-88AD77D5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DD8-AFC0-493F-AAD2-91A51F95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317-6CE3-44CD-9BB7-32A36D0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C54-6945-4EEA-A95E-368809C0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A4FF-60D8-487A-8300-21E17FC45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5: The Holoca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role of average Germans in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develop a 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meaning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of the Holocaust and why and how it was perpet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Read “The Decision to Drop the Atomic Bomb” Due: Mon 5/12!  Choose 4 Question/Answers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5-05T17:39:48Z</dcterms:modified>
  <cp:revision>10</cp:revision>
  <dc:subject/>
  <dc:title>PowerPoint Presentation</dc:title>
</cp:coreProperties>
</file>