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2CAD-678E-4181-A866-0989DCDA6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AA04-62B7-4AD1-9AF8-4DC51B093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074-8172-42AA-9CE5-501BBFDF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A36-8F52-4A6B-9C44-430E8F6C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267-038F-4F83-B65C-6A985C11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543-4548-4969-BC8B-E236B2B5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F8C-FAEA-4F00-A4EC-7FACF7FD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8B2-D6CC-4716-AD9B-BEDB26AA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E82-F9E6-4BBD-91E1-794B245C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BE4-10F3-4691-8C83-6F05FAC6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7EB-0CE3-47EA-9EDD-DC0D63D2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7DE-18B2-43D5-8036-38B7919F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989-98E6-4514-A9CC-1717D1C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E43-08BA-4BC8-8FDD-741794D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BCD6-7AF0-4E67-B5A8-2E357B82C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5: The Holoca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role of average Germans in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develop a 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meaning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of the Holocaust and why and how it was perpetu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Read “The Decision to Drop the Atomic Bomb” Due: Mon 5/12!  Choose 4 Question/Answers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5-05T17:39:48Z</dcterms:modified>
  <cp:revision>10</cp:revision>
  <dc:subject/>
  <dc:title>PowerPoint Presentation</dc:title>
</cp:coreProperties>
</file>