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B4F6-CF6E-472C-811E-6C72B5DB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2678-4133-4858-A15D-7B9A9178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6C5-957C-4119-9A3F-9F3CFB8A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90C-B324-4CBA-9900-63A191D9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451-6C63-4BDF-BBF3-FE674657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388-06E9-49E9-8B9D-4611F067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4AD-5459-4841-8954-33183FDD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D79-D01D-4E9B-8E14-A4FC96F5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186-2117-4B5F-BAD4-0F8462A4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6A2-CD47-4814-AFE6-7B42DD61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1A2-7528-429A-B397-54588D79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B27-FE2A-4A20-AF3E-0D05C37F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FE9-DA5D-451D-B2B1-2ED15E38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513-7191-4CF9-B9D4-48BF2FC6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ED4D-8756-4783-87D3-EBC18B1EA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The Tide Turns: The Allies Advance and the Axis St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narrative of the battles of Midway, El Alamein, and Staling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significance of those battles for turning the war in the Allies fa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Video &amp;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major battles between 1942 and 1944 that turned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and why did these battles turn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7133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atch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pocalypse: World War Two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learn about key turning point battles in each front in 194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stern Front (El-Alam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Eastern Front (Staling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Pacific Theater (Mid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you watch take notes on each battle on the handout.  We will stop to discuss important details as wel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2:11Z</dcterms:modified>
  <cp:revision>8</cp:revision>
  <dc:subject/>
  <dc:title>PowerPoint Presentation</dc:title>
</cp:coreProperties>
</file>