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B6DA-0B89-4572-9ADA-4DBC43334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F03E-D77E-4223-963B-9F2225845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A801-55B7-4632-A71A-173B81B2F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B3AE-4BE8-4BE4-BDA5-245EEBF3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268D-7ABC-4ED9-9AD1-A89483C68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9294-26F8-480A-8652-7BEED82D5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64E6-8180-4D72-B9A8-64FBCD32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D1ED-4584-4006-BE0E-9F3BCFBA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758F-418F-4EE3-A125-2B9240BD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27D0-F553-40D5-98CB-03EDFCE8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69C6-7BA4-4A1D-BE6A-CE9CE11B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C3EF-9ECF-4555-9F6E-45613E24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7EDA-B529-45D1-93BE-3EB78B24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3DDC-463F-4964-BB57-F05DBF24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36A0-99DA-4B10-B0DA-2ACD092AF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ido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51" name="Title 1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L4: The Tide Turns: The Allies Advance and the Axis St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304920" y="1295280"/>
            <a:ext cx="441936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Objectives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To understand the narrative of the battles of Midway, El Alamein, and Stalingr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To understand the significance of those battles for turning the war in the Allies fav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Video &amp;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4952880" y="1295280"/>
            <a:ext cx="388620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Didot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idot"/>
              </a:rPr>
              <a:t>Read </a:t>
            </a:r>
            <a:r>
              <a:rPr b="1" i="1" lang="en-US" sz="3200" spc="-1" strike="noStrike">
                <a:solidFill>
                  <a:srgbClr val="000000"/>
                </a:solidFill>
                <a:latin typeface="Didot"/>
              </a:rPr>
              <a:t>Hitler’s Willing Executioners</a:t>
            </a:r>
            <a:r>
              <a:rPr b="1" lang="en-US" sz="3200" spc="-1" strike="noStrike">
                <a:solidFill>
                  <a:srgbClr val="000000"/>
                </a:solidFill>
                <a:latin typeface="Didot"/>
              </a:rPr>
              <a:t> Due Tuesday 5/6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Essential Questions for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What were the major battles between 1942 and 1944 that turned the course of the war in the Allies fav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How and why did these battles turn the course of the war in the allies fav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6095880" y="1828800"/>
            <a:ext cx="271332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Task for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Watch </a:t>
            </a:r>
            <a:r>
              <a:rPr b="0" i="1" lang="en-US" sz="2800" spc="-1" strike="noStrike">
                <a:solidFill>
                  <a:srgbClr val="000000"/>
                </a:solidFill>
                <a:latin typeface="Didot"/>
              </a:rPr>
              <a:t>Apocalypse: World War Two</a:t>
            </a: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 to learn about key turning point battles in each front in 194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Western Front (El-Alame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Eastern Front (Stalingr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Dido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</a:rPr>
              <a:t>Pacific Theater (Midw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As you watch take notes on each battle on the handout.  We will stop to discuss important details as well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5:27:25Z</dcterms:created>
  <dc:creator>Technology Department</dc:creator>
  <dc:description/>
  <dc:language>en-US</dc:language>
  <cp:lastModifiedBy>WPS</cp:lastModifiedBy>
  <dcterms:modified xsi:type="dcterms:W3CDTF">2014-04-29T17:22:11Z</dcterms:modified>
  <cp:revision>8</cp:revision>
  <dc:subject/>
  <dc:title>PowerPoint Presentation</dc:title>
</cp:coreProperties>
</file>