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F94-0B6D-4B23-99E9-70A390D9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97D0-0446-4034-A402-3C5FD3FF9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9B1-E0C3-4D6B-A09B-20A4FCF4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902-4D63-4F1F-9013-B57F05D9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AA3-B06C-4E35-99DB-7AEB38EA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94E-501D-411C-9CDD-7C6B2515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0FE-ED06-49DE-B93E-BC5C589F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568-9E4A-42A1-A938-3F4D215E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FC2-44B3-477B-8C90-93E3596E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658-D549-4DE2-937D-C945EDB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197-CAE1-4589-81D7-1D9671EF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A06-D74B-43A9-8534-2264F9F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1CC-5B2A-48E4-A2E1-84E44EE8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D5E-DF0E-4AE7-B1A5-1978EF4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9508-07E3-462C-B634-EDB18C6C0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The Tide Turns: The Allies Advance and the Axis St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narrative of the battles of Midway, El Alamein, and Staling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significance of those battles for turning the war in the Allies fa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Video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major battles between 1942 and 1944 that turned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and why did these battles turn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7133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atch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pocalypse: World War Two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learn about key turning point battles in each front in 194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stern Front (El-Alam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Eastern Front (Staling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Pacific Theater (Mid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you watch take notes on each battle on the handout.  We will stop to discuss important details as wel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2:11Z</dcterms:modified>
  <cp:revision>8</cp:revision>
  <dc:subject/>
  <dc:title>PowerPoint Presentation</dc:title>
</cp:coreProperties>
</file>