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6C275-3A0E-44AB-8F56-96A0B6FB00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70FB2-DA19-449D-9145-69D6E558E3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7F32F-62CF-4F3D-A6EA-9935A9557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BD504-0998-4DDF-A78E-5F53249AB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7C1A5-3946-493E-AFDC-655B17B34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19D5D-2D15-48E1-A02D-7F53CD377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7538B-61E2-4999-96CC-5F258D363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BAC89-EECA-4183-9BB1-6D053682A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6008C-3DEA-4A51-B826-AEAE322EB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5BF19-B474-46AC-86DE-66288F86F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69D13-B15B-4213-B2FB-12E7056A4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22865-EE96-4132-BE2B-7E4222DD7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6790B-2004-4F9F-A1EA-90C9586A4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23ECA-D0C4-476A-8562-56A6815DD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68B95-F269-4072-9D8F-55CD53B63E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ido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"/>
          <p:cNvPicPr/>
          <p:nvPr/>
        </p:nvPicPr>
        <p:blipFill>
          <a:blip r:embed="rId1">
            <a:lum bright="36000"/>
          </a:blip>
          <a:stretch/>
        </p:blipFill>
        <p:spPr>
          <a:xfrm>
            <a:off x="0" y="0"/>
            <a:ext cx="9144000" cy="6896160"/>
          </a:xfrm>
          <a:prstGeom prst="rect">
            <a:avLst/>
          </a:prstGeom>
          <a:ln w="0">
            <a:noFill/>
          </a:ln>
        </p:spPr>
      </p:pic>
      <p:sp>
        <p:nvSpPr>
          <p:cNvPr id="51" name="Title 1"/>
          <p:cNvSpPr/>
          <p:nvPr/>
        </p:nvSpPr>
        <p:spPr>
          <a:xfrm>
            <a:off x="0" y="2286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idot"/>
              </a:rPr>
              <a:t>L3: The War in the Pacific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2"/>
          <p:cNvSpPr/>
          <p:nvPr/>
        </p:nvSpPr>
        <p:spPr>
          <a:xfrm>
            <a:off x="304920" y="1295280"/>
            <a:ext cx="4419360" cy="5334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Didot"/>
              </a:rPr>
              <a:t>Agend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Didot"/>
              </a:rPr>
              <a:t>Objectives</a:t>
            </a:r>
            <a:r>
              <a:rPr b="1" lang="en-US" sz="2600" spc="-1" strike="noStrike">
                <a:solidFill>
                  <a:srgbClr val="000000"/>
                </a:solidFill>
                <a:latin typeface="Didot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Didot"/>
              </a:rPr>
              <a:t>To understand, evaluate, and analyze the early phases of the War in the Pacific and its significance for World War Tw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Didot"/>
              </a:rPr>
              <a:t>Schedule</a:t>
            </a:r>
            <a:r>
              <a:rPr b="1" lang="en-US" sz="2600" spc="-1" strike="noStrike">
                <a:solidFill>
                  <a:srgbClr val="000000"/>
                </a:solidFill>
                <a:latin typeface="Didot"/>
              </a:rPr>
              <a:t>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Didot"/>
              </a:rPr>
              <a:t>Whole Class Discuss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2"/>
          <p:cNvSpPr/>
          <p:nvPr/>
        </p:nvSpPr>
        <p:spPr>
          <a:xfrm>
            <a:off x="4952880" y="1295280"/>
            <a:ext cx="3886200" cy="5334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Didot"/>
              </a:rPr>
              <a:t>Homewor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Didot"/>
              </a:rPr>
              <a:t>Read </a:t>
            </a:r>
            <a:r>
              <a:rPr b="1" i="1" lang="en-US" sz="3200" spc="-1" strike="noStrike">
                <a:solidFill>
                  <a:srgbClr val="000000"/>
                </a:solidFill>
                <a:latin typeface="Didot"/>
              </a:rPr>
              <a:t>Hitler’s Willing Executioners</a:t>
            </a:r>
            <a:r>
              <a:rPr b="1" lang="en-US" sz="3200" spc="-1" strike="noStrike">
                <a:solidFill>
                  <a:srgbClr val="000000"/>
                </a:solidFill>
                <a:latin typeface="Didot"/>
              </a:rPr>
              <a:t> Due Tuesday 5/6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26T15:27:25Z</dcterms:created>
  <dc:creator>Technology Department</dc:creator>
  <dc:description/>
  <dc:language>en-US</dc:language>
  <cp:lastModifiedBy>WPS</cp:lastModifiedBy>
  <dcterms:modified xsi:type="dcterms:W3CDTF">2014-04-29T17:20:26Z</dcterms:modified>
  <cp:revision>6</cp:revision>
  <dc:subject/>
  <dc:title>PowerPoint Presentation</dc:title>
</cp:coreProperties>
</file>