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014A-A47B-4D19-94A6-CC1A88928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4A31-B9FC-4CA0-A0E4-F12B87C04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282-EE36-4D7F-ABA2-BD81D29C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78D-8220-4B2A-9617-0C920565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992-BCEA-481A-AD78-775428A0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7FC-9332-474C-9D00-14E1C9D4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5BE4-0E66-432E-B185-7642DA1A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F862-B604-4518-8C84-7FAADC7B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6D11-9D58-40FE-AF67-3EC1F207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734-D94D-4558-A535-FFB27ADF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48E-8155-4B0C-9E16-6AB264A1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FFB-F53E-4EA0-92F7-86B14AC4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F7AF-7BB3-4D48-9328-952EB440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5A02-5C52-47A9-8E95-9A6032DA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AC6B-FD06-47FC-B857-B89204A89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3: The War in the Pacific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04920" y="1295280"/>
            <a:ext cx="44193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Objectives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o understand, evaluate, and analyze the early phases of the War in the Pacific and its significance for World War Tw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952880" y="1295280"/>
            <a:ext cx="38862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Read </a:t>
            </a:r>
            <a:r>
              <a:rPr b="1" i="1" lang="en-US" sz="3200" spc="-1" strike="noStrike">
                <a:solidFill>
                  <a:srgbClr val="000000"/>
                </a:solidFill>
                <a:latin typeface="Didot"/>
              </a:rPr>
              <a:t>Hitler’s Willing Executioners</a:t>
            </a: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 Due Tuesday 5/6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5:27:25Z</dcterms:created>
  <dc:creator>Technology Department</dc:creator>
  <dc:description/>
  <dc:language>en-US</dc:language>
  <cp:lastModifiedBy>WPS</cp:lastModifiedBy>
  <dcterms:modified xsi:type="dcterms:W3CDTF">2014-04-29T17:20:26Z</dcterms:modified>
  <cp:revision>6</cp:revision>
  <dc:subject/>
  <dc:title>PowerPoint Presentation</dc:title>
</cp:coreProperties>
</file>