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2A1-C3B6-401B-9C2A-44D1FE543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5357-5065-4205-BF02-0A2D68D33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A6E-A82F-4B0A-B8DC-AED7BA6F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672-B3DD-482C-B754-77F82233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87B-EA68-4F9A-874E-0212AC91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D98-B17C-4589-BE97-348A8E4E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4C3-CE62-4AC1-92C4-1909B5B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1A3-EB80-4D79-8BC9-790665E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739-365E-4071-8A7F-3D3CF755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5F4-B7EF-4B91-9C73-2DAEBD74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49A-BC83-46CC-BE3B-6C930CAA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87C-6F0C-4895-A520-D1EFEED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1A1-F4A9-4B93-9B95-CAA435A4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9CA-7A02-409A-A2BE-6426840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A1E-3F0B-484E-9A4E-4B687127C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3: The War in the Pacif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, evaluate, and analyze the early phases of the War in the Pacific and its significance for World War Tw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0:26Z</dcterms:modified>
  <cp:revision>6</cp:revision>
  <dc:subject/>
  <dc:title>PowerPoint Presentation</dc:title>
</cp:coreProperties>
</file>