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5C48-7B84-43EF-9D32-4193CEF19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8B2C-3E40-414E-A27F-EC3F0B854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B618-A648-477C-BBB9-63F7AFAA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2A0-A047-4B3E-A0A5-4ED252A7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003-E4DB-41DD-AF4E-4034B4C0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AFE-7738-4FD6-99C4-B36C020F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E45-56E4-4012-B457-A6535EC4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772-F016-4A8D-9230-575B1D80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986-4323-4012-9834-B3C938EC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48A-0523-46C4-A676-3271FE73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79F-1C96-486C-AE88-83D82B1E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155-C8D4-411A-86FC-0484D71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6A2-9C38-4716-9228-449692E9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E82-C9B1-4CBE-8C6F-89E159F7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875-374F-499F-9148-E698807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8CDF-884B-4823-ADBF-71DCBF1F2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9: Stalemate Turns to Slaught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80880" y="1295280"/>
            <a:ext cx="495324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military strategy of WWI by 19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Battles of Verdun and So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The effect of these battles on the wa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Video Clips &amp;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566720" indent="-93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486400" y="1295280"/>
            <a:ext cx="31240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Pre-Writing Check #2 Due Mon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Dido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28916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Phases</a:t>
            </a:r>
            <a:r>
              <a:rPr b="0" lang="ja-JP" sz="4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 Of World Wa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Movement (Race to the Sea) 1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talemate 19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otal War 1915 to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War of Attrition (Slaughter) 1916-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Denouement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Verdun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me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alysis/Significance (Possible Question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 Verdun &amp; Somme epitomize the offensive strategy and its fut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mechanical w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the War of Attrition phase turn traditional forms of fighting on its 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are Verdun &amp; Somme part of the total war exper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09:46Z</dcterms:created>
  <dc:creator>Technology Department</dc:creator>
  <dc:description/>
  <dc:language>en-US</dc:language>
  <cp:lastModifiedBy>WPS</cp:lastModifiedBy>
  <dcterms:modified xsi:type="dcterms:W3CDTF">2014-01-23T18:55:34Z</dcterms:modified>
  <cp:revision>16</cp:revision>
  <dc:subject/>
  <dc:title>PowerPoint Presentation</dc:title>
</cp:coreProperties>
</file>