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17060-A864-446A-8358-3777360526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C5951-10B9-4158-BF0A-0BD1B287EB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74C9F-359D-422B-AF42-86B7DDA360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F94E5-A2CD-46C6-82E3-5A4230909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5AC8D-4A0B-4F21-BCD4-859523D2C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8448A-E244-4D3F-9EEC-0E19FC7C2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86880-9E41-4C98-9264-EE55BAF7D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B5AF8-F012-4653-B510-BB99DBB9B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ABA4A-67EC-4003-9026-17C513C9E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A3C0D-0CAC-4759-972C-424408730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53D05-6225-4FA0-9F93-73070B81D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5F453-0F68-45BA-B9CB-A7791F454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C49CB-BF9F-4528-A752-891E75A62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47EF2-742B-47DA-86A4-259A68779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8A281-B2BA-4515-9128-B676E9D12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6E1AF-8A67-45F4-BC1F-6C2F886184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>
            <a:lum bright="4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itle 1"/>
          <p:cNvSpPr/>
          <p:nvPr/>
        </p:nvSpPr>
        <p:spPr>
          <a:xfrm>
            <a:off x="0" y="380880"/>
            <a:ext cx="91440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idot"/>
              </a:rPr>
              <a:t>L9: Stalemate Turns to Slaughter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2"/>
          <p:cNvSpPr/>
          <p:nvPr/>
        </p:nvSpPr>
        <p:spPr>
          <a:xfrm>
            <a:off x="380880" y="1295280"/>
            <a:ext cx="4953240" cy="5334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Didot"/>
              </a:rPr>
              <a:t>Agen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Didot"/>
              </a:rPr>
              <a:t>Objective</a:t>
            </a:r>
            <a:r>
              <a:rPr b="1" lang="en-US" sz="2800" spc="-1" strike="noStrike">
                <a:solidFill>
                  <a:srgbClr val="000000"/>
                </a:solidFill>
                <a:latin typeface="Didot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Didot"/>
              </a:rPr>
              <a:t>To understand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Didot"/>
              </a:rPr>
              <a:t>The military strategy of WWI by 1916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Didot"/>
              </a:rPr>
              <a:t>The Battles of Verdun and Som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Didot"/>
              </a:rPr>
              <a:t>The effect of these battles on the war experi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Didot"/>
              </a:rPr>
              <a:t>Schedule</a:t>
            </a:r>
            <a:r>
              <a:rPr b="1" lang="en-US" sz="2800" spc="-1" strike="noStrike">
                <a:solidFill>
                  <a:srgbClr val="000000"/>
                </a:solidFill>
                <a:latin typeface="Didot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Didot"/>
              </a:rPr>
              <a:t>Video Clips &amp; Discu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400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524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1566720" indent="-93492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2"/>
          <p:cNvSpPr/>
          <p:nvPr/>
        </p:nvSpPr>
        <p:spPr>
          <a:xfrm>
            <a:off x="5486400" y="1295280"/>
            <a:ext cx="3124080" cy="5334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91960" indent="-291960"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Didot"/>
              </a:rPr>
              <a:t>Home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Didot"/>
              </a:rPr>
              <a:t>Pre-Writing Check #2 Due Mon 2/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 algn="ctr"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Didot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 algn="ctr"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1289160" indent="-53352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Didot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Didot"/>
              </a:rPr>
              <a:t>Phases</a:t>
            </a:r>
            <a:r>
              <a:rPr b="0" lang="ja-JP" sz="4400" spc="-1" strike="noStrike">
                <a:solidFill>
                  <a:srgbClr val="000000"/>
                </a:solidFill>
                <a:latin typeface="Didot"/>
              </a:rPr>
              <a:t>”</a:t>
            </a:r>
            <a:r>
              <a:rPr b="0" lang="en-US" sz="4400" spc="-1" strike="noStrike">
                <a:solidFill>
                  <a:srgbClr val="000000"/>
                </a:solidFill>
                <a:latin typeface="Didot"/>
              </a:rPr>
              <a:t> Of World War 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idot"/>
              </a:rPr>
              <a:t>War of Movement (Race to the Sea) 19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idot"/>
              </a:rPr>
              <a:t>Stalemate 19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idot"/>
              </a:rPr>
              <a:t>Total War 1915 to 191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idot"/>
              </a:rPr>
              <a:t>War of Attrition (Slaughter) 1916-191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idot"/>
              </a:rPr>
              <a:t>Denouement 19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idot"/>
                <a:ea typeface="Didot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80520" y="12952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idot"/>
                <a:ea typeface="Didot"/>
              </a:rPr>
              <a:t>Verdun 19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idot"/>
                <a:ea typeface="Didot"/>
              </a:rPr>
              <a:t>Somme 19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idot"/>
                <a:ea typeface="Didot"/>
              </a:rPr>
              <a:t>Analysis/Significance (Possible Questions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Dido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idot"/>
                <a:ea typeface="Didot"/>
              </a:rPr>
              <a:t>How do Verdun &amp; Somme epitomize the offensive strategy and its futilit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Dido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idot"/>
                <a:ea typeface="Didot"/>
              </a:rPr>
              <a:t>How are Verdun &amp; Somme mechanical wa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Dido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idot"/>
                <a:ea typeface="Didot"/>
              </a:rPr>
              <a:t>How does the War of Attrition phase turn traditional forms of fighting on its hea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Dido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idot"/>
                <a:ea typeface="Didot"/>
              </a:rPr>
              <a:t>How are Verdun &amp; Somme part of the total war experienc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Dido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9T19:09:46Z</dcterms:created>
  <dc:creator>Technology Department</dc:creator>
  <dc:description/>
  <dc:language>en-US</dc:language>
  <cp:lastModifiedBy>WPS</cp:lastModifiedBy>
  <dcterms:modified xsi:type="dcterms:W3CDTF">2014-01-23T18:55:34Z</dcterms:modified>
  <cp:revision>16</cp:revision>
  <dc:subject/>
  <dc:title>PowerPoint Presentation</dc:title>
</cp:coreProperties>
</file>