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972-0F54-498C-8632-2E57BB08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E8E-D640-4C4C-BC89-1F23DD8DD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D6DB-A897-45ED-BA8D-955E45C6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B4E-7AA3-4CCB-94BF-5E535824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FC3-173B-41E1-AEE7-EC01BB75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63C-D9D5-4F35-A001-A1F22EAF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447-6441-40F3-A9F0-9907C722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65B-D552-4D3D-B830-737C85BB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ABF-06A6-4D4C-821C-9A1B7FDA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E99-BE7D-4B81-8AD2-3F12445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35C-F2FA-49FA-BA74-46540A0D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B85-ED43-4FB5-BE44-9080822E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DE3-9811-480F-B752-2DAB985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83B-B5ED-40F7-B520-9F750D69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11D-F552-4797-B01E-36EDFF95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FDF7-1CEA-4549-9968-2082FAF1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9: Stalemate Turns to Slaugh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295280"/>
            <a:ext cx="49532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military strategy of WWI by 19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Battles of Verdun and S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effect of these battles on the wa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Video Clip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486400" y="1295280"/>
            <a:ext cx="31240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Pre-Writing Check #2 Due Mon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Phases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 Of World Wa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Movement (Race to the Sea)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talemate 1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otal War 1915 to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Attrition (Slaughter) 1916-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Denouement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Verdun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me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alysis/Significance (Possible Ques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 Verdun &amp; Somme epitomize the offensive strategy and its fut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mechanical w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the War of Attrition phase turn traditional forms of fighting on its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part of the total war exper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8:55:34Z</dcterms:modified>
  <cp:revision>16</cp:revision>
  <dc:subject/>
  <dc:title>PowerPoint Presentation</dc:title>
</cp:coreProperties>
</file>