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4A09-BA66-4206-867E-836424495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A9B0-F3E0-4AD6-A08A-7E605B156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F451-F358-44BB-B1D5-A42CD27DE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7EA4-820C-4B49-979C-3CBE3BB2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BA36-2ACB-41C9-9984-9A4F0B5B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8866-D726-4D74-8A76-75357D8E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1E7-CFF8-4A0C-B32B-C64FB966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2A01-816F-40F9-BA3A-8CF517A6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B407-1BB2-41FC-A631-7DC4EAFE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C0EC-7832-493C-9590-0F781797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AE1-5855-48F9-B506-4C368719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3E52-712A-4C69-8616-191DF751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A02A-836C-4279-9113-7FE5021F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E26-BC74-4042-B959-4AFF749C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5762-6C89-4E9A-894F-C51A713D1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8: Genocide and Total War: The Armenian Genoc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752480"/>
            <a:ext cx="41148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he Armenian Genoc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he relationship between genocide and total w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Video: </a:t>
            </a:r>
            <a:r>
              <a:rPr b="1" i="1" lang="en-US" sz="2600" spc="-1" strike="noStrike">
                <a:solidFill>
                  <a:srgbClr val="000000"/>
                </a:solidFill>
                <a:latin typeface="Didot"/>
              </a:rPr>
              <a:t>The Armenian Genoc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566720" indent="-934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76920" y="1752480"/>
            <a:ext cx="373356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Didot"/>
              </a:rPr>
              <a:t>Rites of Spring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 reading - pages 139-146 required; rest optional.  Read for understanding of experience and logic of Verdun and Somme.  Due: L9 (Mon 1/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Pre-Writing Check-In #2 Due: L12 (Mon 2/3 – New Dat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8916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09:46Z</dcterms:created>
  <dc:creator>Technology Department</dc:creator>
  <dc:description/>
  <dc:language>en-US</dc:language>
  <cp:lastModifiedBy>WPS</cp:lastModifiedBy>
  <dcterms:modified xsi:type="dcterms:W3CDTF">2014-01-23T15:03:16Z</dcterms:modified>
  <cp:revision>13</cp:revision>
  <dc:subject/>
  <dc:title>PowerPoint Presentation</dc:title>
</cp:coreProperties>
</file>