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E71B-443D-488D-B82D-D1FAA45A6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1C06-B978-49ED-9C40-1B4DD894F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3381-0491-4FCF-B8D5-3397683D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3A4-B21A-4958-8833-E1E58BF4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145-8AB3-4B0A-9118-A20B4720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4B5A-8948-4797-9567-A612249C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2752-1FFD-4F45-AA61-7BE55E8B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022-90BC-4F35-886A-D5633BB4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7F9-9A6A-42C0-93BB-E6C87997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C4C6-AF05-467F-AF5C-6F6568D1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C03-7D37-42F9-8985-FEEB603A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397-FED6-463E-A6FC-9A758BD9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9EBF-20E5-47B4-99FE-FD00D56D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8085-F253-4AA1-8E57-00912A70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44BA-6677-45D1-AF23-FEBAF00BD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8: Genocide and Total War: The Armenian Genoc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752480"/>
            <a:ext cx="41148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 Armenian Genoc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 relationship between genocide and total w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Video: </a:t>
            </a:r>
            <a:r>
              <a:rPr b="1" i="1" lang="en-US" sz="2600" spc="-1" strike="noStrike">
                <a:solidFill>
                  <a:srgbClr val="000000"/>
                </a:solidFill>
                <a:latin typeface="Didot"/>
              </a:rPr>
              <a:t>The Armenian Genoc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566720" indent="-93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76920" y="1752480"/>
            <a:ext cx="373356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Didot"/>
              </a:rPr>
              <a:t>Rites of Spring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reading - pages 139-146 required; rest optional.  Read for understanding of experience and logic of Verdun and Somme.  Due: L9 (Mon 1/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Pre-Writing Check-In #2 Due: L12 (Mon 2/3 – New Dat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09:46Z</dcterms:created>
  <dc:creator>Technology Department</dc:creator>
  <dc:description/>
  <dc:language>en-US</dc:language>
  <cp:lastModifiedBy>WPS</cp:lastModifiedBy>
  <dcterms:modified xsi:type="dcterms:W3CDTF">2014-01-23T15:03:16Z</dcterms:modified>
  <cp:revision>13</cp:revision>
  <dc:subject/>
  <dc:title>PowerPoint Presentation</dc:title>
</cp:coreProperties>
</file>