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F3F2-E1AB-4A87-BAEE-F20AF5DED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59D0-C4D9-472E-B5F5-3FCE080B5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AB1A-A80A-44A0-99DB-8AB8B8BA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C6F1-D2AD-4715-90EB-1679BA8F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9365-0833-4A67-B602-1B3DDC5F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EDDE-C131-4992-866C-1759BAD2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19EE-DE22-4C25-9115-38A5ABA1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BBBF-727E-4457-9EFF-29EFF7E5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A8EF-019D-4E71-9734-A2366C62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109E-5537-4966-A9C3-F32C0EC7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A63-78B4-4A2D-B66C-51191729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2592-7734-4940-97A0-09C3333E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F880-F8E9-4745-859A-78A5D984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9F7-02F2-4083-901D-8A7CE355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268C-A801-47D2-9B06-4B1125233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8: Genocide and Total War: The Armenian Genoc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752480"/>
            <a:ext cx="411480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he Armenian Genoc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he relationship between genocide and total w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Video: </a:t>
            </a:r>
            <a:r>
              <a:rPr b="1" i="1" lang="en-US" sz="2600" spc="-1" strike="noStrike">
                <a:solidFill>
                  <a:srgbClr val="000000"/>
                </a:solidFill>
                <a:latin typeface="Didot"/>
              </a:rPr>
              <a:t>The Armenian Genoc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Discu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566720" indent="-9349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876920" y="1752480"/>
            <a:ext cx="373356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Didot"/>
              </a:rPr>
              <a:t>Rites of Spring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 reading - pages 139-146 required; rest optional.  Read for understanding of experience and logic of Verdun and Somme.  Due: L9 (Mon 1/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Pre-Writing Check-In #2 Due: L12 (Mon 2/3 – New Dat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8916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9:09:46Z</dcterms:created>
  <dc:creator>Technology Department</dc:creator>
  <dc:description/>
  <dc:language>en-US</dc:language>
  <cp:lastModifiedBy>WPS</cp:lastModifiedBy>
  <dcterms:modified xsi:type="dcterms:W3CDTF">2014-01-23T15:03:16Z</dcterms:modified>
  <cp:revision>13</cp:revision>
  <dc:subject/>
  <dc:title>PowerPoint Presentation</dc:title>
</cp:coreProperties>
</file>