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502B-850A-46E2-9986-17834823B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E4E4-A6AC-44FC-82FA-1D730034F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477-6B89-4D33-9B5D-6BD203F4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9F0-352B-4788-8830-7621703B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07D-D2F4-4F06-8D1D-8EAA0BAB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4C6-2F5E-4BCF-BBE7-4F368282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496-0ECC-4F0E-ACA2-2AF9B9FD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4F3-30B8-4606-A021-D1FD4B1B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BE7-4973-4507-AA20-2E0C3CA9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F64-E82F-44CD-94F1-C92B6843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B05-C671-4911-98C3-746FBF2F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016-D7F0-47D0-A189-E861E7EF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835-0514-4160-91A3-62841561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BBB-5F8C-4A71-83A4-9979658E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678B-FBEC-4488-91BD-2F6B0126E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8: Genocide and Total War: The Armenian Genoc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41148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Armenian Genoc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relationship between genocide and total w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Video: </a:t>
            </a:r>
            <a:r>
              <a:rPr b="1" i="1" lang="en-US" sz="2600" spc="-1" strike="noStrike">
                <a:solidFill>
                  <a:srgbClr val="000000"/>
                </a:solidFill>
                <a:latin typeface="Didot"/>
              </a:rPr>
              <a:t>The Armenian Genoc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76920" y="1752480"/>
            <a:ext cx="373356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reading - pages 139-146 required; rest optional.  Read for understanding of experience and logic of Verdun and Somme.  Due: L9 (Mon 1/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-In #2 Due: L12 (Mon 2/3 – New Dat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23T15:03:16Z</dcterms:modified>
  <cp:revision>13</cp:revision>
  <dc:subject/>
  <dc:title>PowerPoint Presentation</dc:title>
</cp:coreProperties>
</file>