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4B05-71A3-4AD8-9B6D-223FB054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F6A-2B60-4955-AFDC-3C806A51E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900-1912-45D9-BFEE-412141B4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41D-8624-4CAB-A858-E67142E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90D-37DF-49D4-A6A0-8FC06CB4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585-9EF8-4B71-84B0-DD3C35EB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652-CD83-4F2F-B113-7F81189E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CEE-7DC3-4881-B5E4-17566993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4A8-B8D3-48C9-AFA7-5B21285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652-1221-45BD-9736-57ADBF7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EC6-EF23-4037-A3BE-5334C26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89A-59E1-4A5D-833F-947191B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433-B128-4CCD-AD1E-4439D84F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AEF-1B1F-4625-98A9-ECF9F6A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E775-E0D8-43A6-8A83-DED3AEE3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</a:rPr>
              <a:t>L6: World War One Becomes a Tot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51055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ffect of World War One on colonists, civilians, women, children and ethnic min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total war is, why it emerged, and its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1.   Video: 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e Grea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2.  Discussion of Video 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Rites of 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15000" y="1752480"/>
            <a:ext cx="29718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 #1 Due: L8 (Wed 1/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Didot"/>
              </a:rPr>
              <a:t>The Great War: Tot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 will watch an excerpt from the PBS video series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The Great War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describing how World War One was a Total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As we watch, please do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ake notes on how World War One effected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Wo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ivil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is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y did total war emer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</a:rPr>
              <a:t>Think about: What was the logic of total w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hole Class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(supplemented </a:t>
            </a:r>
            <a:r>
              <a:rPr b="0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410080" y="5218200"/>
            <a:ext cx="3733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15T03:10:53Z</dcterms:modified>
  <cp:revision>9</cp:revision>
  <dc:subject/>
  <dc:title>PowerPoint Presentation</dc:title>
</cp:coreProperties>
</file>