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923-0482-4EE2-95D0-9CD983FAB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220-1560-4D4A-9EA2-839C977D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906-8A33-4F6C-8D1D-0F9F6B68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6EB-6B87-4CB7-BB85-8F46C2D2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954-4159-431B-8B2A-67B6B07D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D5C-B72E-4FF5-9F0A-63A77E31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755-205D-49E6-AD61-03FD085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29E-1E83-4307-AEC3-485717D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FCB-87BB-46EA-8A6C-428FADC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233-1AAA-4350-8127-702CDFB4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FBC-399E-44B9-969F-0426BB0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A41-3F3F-4AF6-8233-4EC78DC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5B4-6D9E-411C-A622-DE76650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B81-A2E3-456F-A1CA-E1A01FF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AAC2-3219-4EEE-AC4A-6E7D114A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6: World War One Becomes a Tot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ffect of World War One on colonists, civilians, women, children and ethnic min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total war is, why it emerged, and its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Video: 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e Grea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2.  Discussion of Video 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Rites of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Didot"/>
              </a:rPr>
              <a:t>The Great War: Tot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watch an excerpt from the PBS video serie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The Great War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describing how World War One was a Total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s we watch, please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ake notes on how World War One effecte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ivil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is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y did total war emer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was the logic of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Class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supplemented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10080" y="5218200"/>
            <a:ext cx="3733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15T03:10:53Z</dcterms:modified>
  <cp:revision>9</cp:revision>
  <dc:subject/>
  <dc:title>PowerPoint Presentation</dc:title>
</cp:coreProperties>
</file>