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943B-60E9-44B0-B097-1FAC2E22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1482-A987-4302-AD44-1BD021BAB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E72-9943-40C3-9304-E610D87F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6C1-B613-4C28-9885-9AF782F7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0FB-63E2-4F78-B512-8EF4F079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E26-7DE8-45FA-A61D-39F4D567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C76-D8F3-419D-B400-E1E177DF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5AF-A8D3-4F35-AA97-778720D5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2F0-F844-424E-A7E4-2D2FBB11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264-0AEC-4506-8BFD-C029F640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224-7816-4E6C-B0ED-A190FC71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1BD-1A68-4319-A6A0-F0DE3FC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61D-0D02-42DF-B08A-AA668B8D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7F4-80E8-44BE-A780-03901DB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7D7C-3BBB-4F34-A407-8B3DAD6AD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6: World War One Becomes a Tota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ffect of World War One on colonists, civilians, women, children and ethnic mino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total war is, why it emerged, and its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Video: 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e Great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2.  Discussion of Video 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Rites of Sp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Didot"/>
              </a:rPr>
              <a:t>The Great War: Tota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watch an excerpt from the PBS video serie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The Great War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describing how World War One was a Total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s we watch, please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ake notes on how World War One effected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o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ivil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is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y did total war emer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was the logic of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Class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supplemented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10080" y="5218200"/>
            <a:ext cx="3733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15T03:10:53Z</dcterms:modified>
  <cp:revision>9</cp:revision>
  <dc:subject/>
  <dc:title>PowerPoint Presentation</dc:title>
</cp:coreProperties>
</file>