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181B-594A-47D7-A270-879A57DF5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EF79-E9F4-4D4D-BFFA-EEA7620F2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A13A-DF16-4431-82BF-924891797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3238-4562-4AD7-8ADD-B664027B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A8D5-8304-4D22-8954-F8000F11D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9DF0-5578-4DE6-B377-261AB5BF1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F567-244B-4249-818C-B13AC28A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A433-C9C3-4BB8-B725-58B2ED53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7BD4-2523-45B7-9A6F-4D513A58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7FB2-8BF9-4950-9E6F-2B49CE18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926D-16DF-4674-B7D8-04596E80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6779-5DF7-4776-A521-2926D495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DF4A-A601-4D3C-BD82-581AB69A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D473-321D-4320-B25D-FA4C41A0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AF14-508B-4337-9083-429D23716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L6: World War One Becomes a Total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80880" y="1752480"/>
            <a:ext cx="510552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he effect of World War One on colonists, civilians, women, children and ethnic minori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What total war is, why it emerged, and its log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1.   Video:  </a:t>
            </a:r>
            <a:r>
              <a:rPr b="1" i="1" lang="en-US" sz="2200" spc="-1" strike="noStrike">
                <a:solidFill>
                  <a:srgbClr val="000000"/>
                </a:solidFill>
                <a:latin typeface="Didot"/>
              </a:rPr>
              <a:t>The Great W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2.  Discussion of Video and </a:t>
            </a:r>
            <a:r>
              <a:rPr b="1" i="1" lang="en-US" sz="2200" spc="-1" strike="noStrike">
                <a:solidFill>
                  <a:srgbClr val="000000"/>
                </a:solidFill>
                <a:latin typeface="Didot"/>
              </a:rPr>
              <a:t>Rites of Sp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566720" indent="-9349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5715000" y="1752480"/>
            <a:ext cx="297180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Ho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Pre-Writing Check #1 Due: L8 (Wed 1/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8916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Didot"/>
              </a:rPr>
              <a:t>The Great War: Total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We will watch an excerpt from the PBS video series </a:t>
            </a:r>
            <a:r>
              <a:rPr b="0" i="1" lang="en-US" sz="2400" spc="-1" strike="noStrike">
                <a:solidFill>
                  <a:srgbClr val="000000"/>
                </a:solidFill>
                <a:latin typeface="Didot"/>
              </a:rPr>
              <a:t>The Great War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 describing how World War One was a Total Wa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As we watch, please do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Take notes on how World War One effected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Wo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Civil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Think about: What is total w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Think about: Why did total war emer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Think about: What was the logic of total w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Whole Class Discu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(supplemented </a:t>
            </a:r>
            <a:r>
              <a:rPr b="0" i="1" lang="en-US" sz="2400" spc="-1" strike="noStrike">
                <a:solidFill>
                  <a:srgbClr val="000000"/>
                </a:solidFill>
                <a:latin typeface="Didot"/>
              </a:rPr>
              <a:t>Rites of Spring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5410080" y="5218200"/>
            <a:ext cx="373392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9:09:46Z</dcterms:created>
  <dc:creator>Technology Department</dc:creator>
  <dc:description/>
  <dc:language>en-US</dc:language>
  <cp:lastModifiedBy>WPS</cp:lastModifiedBy>
  <dcterms:modified xsi:type="dcterms:W3CDTF">2014-01-15T03:10:53Z</dcterms:modified>
  <cp:revision>9</cp:revision>
  <dc:subject/>
  <dc:title>PowerPoint Presentation</dc:title>
</cp:coreProperties>
</file>