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B0A7-AB21-487E-8ABA-451F30A6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070B-4EF0-4168-AD4B-50771FD6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013-1110-458D-B1C3-29199D32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3E7-FA3D-483D-AB19-7F33415E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14C-3F4D-404E-A682-9CFDA5D4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9F5-4F92-4794-8EFE-87AD7127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8DF-6758-40CD-82CE-A4D1A957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B11-21E1-4CF1-A948-7DB779AB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228-DA2E-4644-BB1B-17B35CB8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BE3-DE10-47F3-AF35-FDCF352B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964-57CE-47FE-90CE-6173D8D9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4B7-505C-4F3B-94F8-E33E6D0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CEC-9083-442B-854D-24FE8BFD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293-5029-4313-ACB9-E6A7A4B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9940-11DF-4566-A8B9-810E37ED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5: 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1.       The effect of trench warfare on soldiers</a:t>
            </a:r>
            <a:r>
              <a:rPr b="1" lang="ja-JP" sz="20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 psyc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2.       What were the long-term physical and psychological effects of trench war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How did trench warfare and shell shock change how people thought about masculinity, war, and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dot"/>
              </a:rPr>
              <a:t>The physical &amp; psychological experiences of war: Group Work and 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733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Read selections on Total War from </a:t>
            </a: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Due L6 (Thurs 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rench Warfare and the Emotional Wounds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Last class we talked about the physical experiences and military tactics of trench warfare, today we want to talk about the emotional experiences of trench war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explore these issues in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</a:t>
            </a:r>
            <a:r>
              <a:rPr b="0" i="1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All Quiet on the Western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Discussion of Video Cl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hole Class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ＭＳ Ｐゴシック"/>
              </a:rPr>
              <a:t>We will have a whole class discussion of the ideas you generated in you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45000" y="1676520"/>
            <a:ext cx="3699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376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Discussion of </a:t>
            </a:r>
            <a:r>
              <a:rPr b="0" i="1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All Quiet on the Western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Discuss the following with your group using SPECIFICS from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QWF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emotional experiences of trench warf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were these emotional experiences directly tied to new technologies and combat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effects did they have on soldiers during and after the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did these experiences shape soldiers</a:t>
            </a:r>
            <a:r>
              <a:rPr b="0" lang="ja-JP" sz="2800" spc="-1" strike="noStrike">
                <a:solidFill>
                  <a:srgbClr val="000000"/>
                </a:solidFill>
                <a:latin typeface="Dido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attitude toward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The Physical and Psychological Aftermath of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To deepen your understanding of these issues, we will watch a brief video showing the physical and psychological trauma soldiers faced after the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Shell Shock</a:t>
            </a:r>
            <a:r>
              <a:rPr b="0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at we know know as Combat Stress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uring WW1 was considered a psychiatric illness resulting from injury to the nerves during comb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First time that war veterans experience long-term psychological trauma on such a wid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arning: Some images are graph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Discuss with you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791320" y="4767120"/>
            <a:ext cx="33526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Conclusion: Putt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What were the physical and emotional effects of trench warf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did these experiences in the trenches and their long-term effects shape masculinity and masculine ident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w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How people thought about rea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Didot"/>
              </a:rPr>
              <a:t>Trench warfare was a pivotal moment in the emotional/psychological experience of the war.  Explai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</a:rPr>
              <a:t>Early Months of the War             Remainder of th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19720" y="2590920"/>
            <a:ext cx="457200" cy="283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Trench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W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ngravers MT"/>
              </a:rPr>
              <a:t>f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3:07:34Z</dcterms:created>
  <dc:creator>WPS</dc:creator>
  <dc:description/>
  <dc:language>en-US</dc:language>
  <cp:lastModifiedBy>WPS</cp:lastModifiedBy>
  <cp:lastPrinted>2010-01-13T15:40:33Z</cp:lastPrinted>
  <dcterms:modified xsi:type="dcterms:W3CDTF">2014-01-14T19:31:26Z</dcterms:modified>
  <cp:revision>33</cp:revision>
  <dc:subject/>
  <dc:title>PowerPoint Presentation</dc:title>
</cp:coreProperties>
</file>