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855CD-87FF-4B5C-901A-3C7BDDE7F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34B32-9E50-4334-BFEA-17BF88002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12FD-37D0-4FBD-A71F-D8E090E31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3D4E-9FD1-4C0D-A6F9-D55D668FB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31D8-2E50-4DFA-807C-EB62FBE36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621A-A4F0-4D2F-97D6-431D41DF5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5D93-D961-4121-8D60-C3EB82744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6A25-4E3D-4052-8416-D68B11843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9390-AE4B-42D2-B593-3BBA80351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4D18-C369-475B-ABC0-22B79337B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597F-C80C-4758-A1DA-AE356C221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BE0F-A103-4FD1-B6E3-8DAC1F4A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4037-C6BF-468F-BCFC-E5C104ED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39F2-EAB9-44E7-A893-C4E62D7A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A8FE7-01AF-43DB-8E20-879D0724E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itle 1"/>
          <p:cNvSpPr/>
          <p:nvPr/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idot"/>
              </a:rPr>
              <a:t>L5: Trench Warfare and the Emotional Wounds of 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380880" y="1752480"/>
            <a:ext cx="5105520" cy="487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Didot"/>
              </a:rPr>
              <a:t>Age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Didot"/>
              </a:rPr>
              <a:t>Objective</a:t>
            </a: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To understand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1.       The effect of trench warfare on soldiers</a:t>
            </a:r>
            <a:r>
              <a:rPr b="1" lang="ja-JP" sz="2000" spc="-1" strike="noStrike">
                <a:solidFill>
                  <a:srgbClr val="000000"/>
                </a:solidFill>
                <a:latin typeface="Didot"/>
              </a:rPr>
              <a:t>’</a:t>
            </a: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 psych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2.       What were the long-term physical and psychological effects of trench warfa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Didot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How did trench warfare and shell shock change how people thought about masculinity, war, and rea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Didot"/>
              </a:rPr>
              <a:t>Schedule</a:t>
            </a: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The physical &amp; psychological experiences of war: Group Work and Whole Class Dis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273320" indent="-5335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5715000" y="1752480"/>
            <a:ext cx="297180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</a:rPr>
              <a:t>Ho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Read selections on Total War from </a:t>
            </a:r>
            <a:r>
              <a:rPr b="1" i="1" lang="en-US" sz="2400" spc="-1" strike="noStrike">
                <a:solidFill>
                  <a:srgbClr val="000000"/>
                </a:solidFill>
                <a:latin typeface="Didot"/>
              </a:rPr>
              <a:t>Rites of Spring</a:t>
            </a: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 Due L6 (Thurs 1/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Pre-Writing Check #1 Due: L8 (Wed 1/2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Didot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289160" indent="-5335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idot"/>
              </a:rPr>
              <a:t>Trench Warfare and the Emotional Wounds of 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5105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Last class we talked about the physical experiences and military tactics of trench warfare, today we want to talk about the emotional experiences of trench warf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We will explore these issues in two par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  <a:ea typeface="ＭＳ Ｐゴシック"/>
              </a:rPr>
              <a:t>Group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  <a:ea typeface="ＭＳ Ｐゴシック"/>
              </a:rPr>
              <a:t>Discussion of </a:t>
            </a:r>
            <a:r>
              <a:rPr b="0" i="1" lang="en-US" sz="2000" spc="-1" strike="noStrike">
                <a:solidFill>
                  <a:srgbClr val="000000"/>
                </a:solidFill>
                <a:latin typeface="Didot"/>
                <a:ea typeface="ＭＳ Ｐゴシック"/>
              </a:rPr>
              <a:t>All Quiet on the Western 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  <a:ea typeface="ＭＳ Ｐゴシック"/>
              </a:rPr>
              <a:t>Discussion of Video Cli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  <a:ea typeface="ＭＳ Ｐゴシック"/>
              </a:rPr>
              <a:t>Whole Class Dis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  <a:ea typeface="ＭＳ Ｐゴシック"/>
              </a:rPr>
              <a:t>We will have a whole class discussion of the ideas you generated in your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5445000" y="1676520"/>
            <a:ext cx="3699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2376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idot"/>
                <a:ea typeface="Didot"/>
              </a:rPr>
              <a:t>Discussion of </a:t>
            </a:r>
            <a:r>
              <a:rPr b="0" i="1" lang="en-US" sz="3600" spc="-1" strike="noStrike">
                <a:solidFill>
                  <a:srgbClr val="000000"/>
                </a:solidFill>
                <a:latin typeface="Didot"/>
                <a:ea typeface="Didot"/>
              </a:rPr>
              <a:t>All Quiet on the Western Fro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920" y="14479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Discuss the following with your group using SPECIFICS from </a:t>
            </a:r>
            <a:r>
              <a:rPr b="0" i="1" lang="en-US" sz="2800" spc="-1" strike="noStrike">
                <a:solidFill>
                  <a:srgbClr val="000000"/>
                </a:solidFill>
                <a:latin typeface="Didot"/>
              </a:rPr>
              <a:t>AQWF</a:t>
            </a: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 to suppor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What were the emotional experiences of trench warfa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How were these emotional experiences directly tied to new technologies and combat techniqu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What effects did they have on soldiers during and after the w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How did these experiences shape soldiers</a:t>
            </a:r>
            <a:r>
              <a:rPr b="0" lang="ja-JP" sz="2800" spc="-1" strike="noStrike">
                <a:solidFill>
                  <a:srgbClr val="000000"/>
                </a:solidFill>
                <a:latin typeface="Dido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 attitude toward w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idot"/>
              </a:rPr>
              <a:t>The Physical and Psychological Aftermath of 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To deepen your understanding of these issues, we will watch a brief video showing the physical and psychological trauma soldiers faced after the wa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Dido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Shell Shock</a:t>
            </a:r>
            <a:r>
              <a:rPr b="0" lang="ja-JP" sz="2400" spc="-1" strike="noStrike">
                <a:solidFill>
                  <a:srgbClr val="000000"/>
                </a:solidFill>
                <a:latin typeface="Dido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What we know know as Combat Stress Re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During WW1 was considered a psychiatric illness resulting from injury to the nerves during comba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First time that war veterans experience long-term psychological trauma on such a wide sca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Warning: Some images are graphic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Discuss with your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791320" y="4767120"/>
            <a:ext cx="335268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</a:rPr>
              <a:t>Conclusion: Putting it All Togeth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Whole Class 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idot"/>
              </a:rPr>
              <a:t>What were the physical and emotional effects of trench warfar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idot"/>
              </a:rPr>
              <a:t>How did these experiences in the trenches and their long-term effects shape masculinity and masculine identit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idot"/>
              </a:rPr>
              <a:t>How people thought about wa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idot"/>
              </a:rPr>
              <a:t>How people thought about realit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Didot"/>
              </a:rPr>
              <a:t>Trench warfare was a pivotal moment in the emotional/psychological experience of the war.  Explain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560" y="2514600"/>
            <a:ext cx="84582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idot"/>
              </a:rPr>
              <a:t>Early Months of the War             Remainder of the W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4419720" y="2590920"/>
            <a:ext cx="457200" cy="2831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Engravers MT"/>
              </a:rPr>
              <a:t>Trench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Engravers MT"/>
              </a:rPr>
              <a:t>W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Engravers MT"/>
              </a:rPr>
              <a:t>fa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23:07:34Z</dcterms:created>
  <dc:creator>WPS</dc:creator>
  <dc:description/>
  <dc:language>en-US</dc:language>
  <cp:lastModifiedBy>WPS</cp:lastModifiedBy>
  <cp:lastPrinted>2010-01-13T15:40:33Z</cp:lastPrinted>
  <dcterms:modified xsi:type="dcterms:W3CDTF">2014-01-14T19:31:26Z</dcterms:modified>
  <cp:revision>33</cp:revision>
  <dc:subject/>
  <dc:title>PowerPoint Presentation</dc:title>
</cp:coreProperties>
</file>