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A73F-F87F-4FE3-A3B5-18B4C27B4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BB47-D9A0-4CF8-8E35-6D43B497B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BDF-959E-46DC-8332-E4DAC211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18CB-3C1A-4637-9489-0AEC24EB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876-3E10-4641-B27C-67E7E976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4B8-C3F8-4F34-B2EC-4B6E4F41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FC37-1B4F-4031-9958-6D317249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BA3-DF65-41DB-86D2-0F762A4A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AFD-30FD-4908-AC8B-6C85FA90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B6A0-CE34-4B34-BE89-6798B5B6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E240-7BC8-444B-9B4F-0B0880D4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D77A-0ACF-4604-BB04-C6519651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F3F-B990-46A8-9A88-2AE9A193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7383-9B7F-4D86-97D3-8D80CBD7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C237-77C7-4730-94F1-719368D2C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5: The Holoca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04920" y="1295280"/>
            <a:ext cx="441936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Objectives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 the role of average Germans in the Holoc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develop a </a:t>
            </a:r>
            <a:r>
              <a:rPr b="1" lang="ja-JP" sz="24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meaning</a:t>
            </a:r>
            <a:r>
              <a:rPr b="1" lang="ja-JP" sz="24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 of the Holocaust and why and how it was perpetu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952880" y="1295280"/>
            <a:ext cx="38862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Read “The Decision to Drop the Atomic Bomb” Due: Mon 5/12!  Choose 4 Question/Answers to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5:27:25Z</dcterms:created>
  <dc:creator>Technology Department</dc:creator>
  <dc:description/>
  <dc:language>en-US</dc:language>
  <cp:lastModifiedBy>WPS</cp:lastModifiedBy>
  <dcterms:modified xsi:type="dcterms:W3CDTF">2014-05-05T17:39:48Z</dcterms:modified>
  <cp:revision>10</cp:revision>
  <dc:subject/>
  <dc:title>PowerPoint Presentation</dc:title>
</cp:coreProperties>
</file>