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BDE1-E3DD-4093-A3CA-22A627B8D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3C49-3BB2-48CD-93A0-158013D12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9CF7-D4D5-4EC1-9371-983BDB36A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9DD8-BFAC-4B6C-8D43-BA2D3978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46ED-ACAD-4F89-9900-C355A9D0E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5DCE-34B4-463F-B45A-B19EE1321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E563-FEE5-4E95-A0EA-94DC860B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B6C1-4476-448C-82EC-0CC69E81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B63C-B7E3-41D8-8C45-9539C7E4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2452-EB31-479E-818B-67A51C2B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8575-9585-4564-94B0-449244D7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A081-407D-478E-8E6C-FEA2F74C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FEB1-519A-4BA2-AE69-073DF531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0B02-53F1-40A7-8CDF-FEDEFB4C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DE1B-BDF9-4E24-98AF-C9C6AEA47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ido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51" name="Title 1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L4: The Tide Turns: The Allies Advance and the Axis St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304920" y="1295280"/>
            <a:ext cx="441936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Objectives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To understand the narrative of the battles of Midway, El Alamein, and Stalingr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To understand the significance of those battles for turning the war in the Allies fav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Video &amp;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4952880" y="1295280"/>
            <a:ext cx="388620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Didot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idot"/>
              </a:rPr>
              <a:t>Read </a:t>
            </a:r>
            <a:r>
              <a:rPr b="1" i="1" lang="en-US" sz="3200" spc="-1" strike="noStrike">
                <a:solidFill>
                  <a:srgbClr val="000000"/>
                </a:solidFill>
                <a:latin typeface="Didot"/>
              </a:rPr>
              <a:t>Hitler’s Willing Executioners</a:t>
            </a:r>
            <a:r>
              <a:rPr b="1" lang="en-US" sz="3200" spc="-1" strike="noStrike">
                <a:solidFill>
                  <a:srgbClr val="000000"/>
                </a:solidFill>
                <a:latin typeface="Didot"/>
              </a:rPr>
              <a:t> Due Tuesday 5/6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Essential Questions for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What were the major battles between 1942 and 1944 that turned the course of the war in the Allies fav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How and why did these battles turn the course of the war in the allies fav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6095880" y="1828800"/>
            <a:ext cx="271332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Task for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Watch </a:t>
            </a:r>
            <a:r>
              <a:rPr b="0" i="1" lang="en-US" sz="2800" spc="-1" strike="noStrike">
                <a:solidFill>
                  <a:srgbClr val="000000"/>
                </a:solidFill>
                <a:latin typeface="Didot"/>
              </a:rPr>
              <a:t>Apocalypse: World War Two</a:t>
            </a: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 to learn about key turning point battles in each front in 194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Western Front (El-Alame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Eastern Front (Stalingr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Pacific Theater (Midw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As you watch take notes on each battle on the handout.  We will stop to discuss important details as well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5:27:25Z</dcterms:created>
  <dc:creator>Technology Department</dc:creator>
  <dc:description/>
  <dc:language>en-US</dc:language>
  <cp:lastModifiedBy>WPS</cp:lastModifiedBy>
  <dcterms:modified xsi:type="dcterms:W3CDTF">2014-04-29T17:22:11Z</dcterms:modified>
  <cp:revision>8</cp:revision>
  <dc:subject/>
  <dc:title>PowerPoint Presentation</dc:title>
</cp:coreProperties>
</file>