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D4F9-F3BA-4DD7-994E-13F8F1A9C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E9B3-036D-447E-9618-4DF9735D9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9BD6-172A-4C14-8F46-2D0314A1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288A-34CE-4637-8E02-8DB5ECA5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8B0D-1613-4E45-8C74-90DFDA79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B6FA-B0F3-4466-B6BA-D8D5AE9E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D5CC-CF2A-41A0-954B-DE235A99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7C37-63A4-4867-ABB9-1F41F3F1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DF97-6381-41BD-98F6-54783C80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E9C1-4633-486E-8C3E-7D977FC3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E5DF-1942-449E-B79E-E954057B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462E-DB70-4438-BC52-A3C960EB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304A-1ADE-42F9-996C-C758E528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6914-75AB-4312-B2AC-60AE6DB5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792E-088A-4DC8-BD06-3B648A851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do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4: The Tide Turns: The Allies Advance and the Axis St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04920" y="1295280"/>
            <a:ext cx="441936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Objectives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understand the narrative of the battles of Midway, El Alamein, and Stalingr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understand the significance of those battles for turning the war in the Allies fav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Video &amp;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4952880" y="1295280"/>
            <a:ext cx="388620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Read </a:t>
            </a:r>
            <a:r>
              <a:rPr b="1" i="1" lang="en-US" sz="3200" spc="-1" strike="noStrike">
                <a:solidFill>
                  <a:srgbClr val="000000"/>
                </a:solidFill>
                <a:latin typeface="Didot"/>
              </a:rPr>
              <a:t>Hitler’s Willing Executioners</a:t>
            </a: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 Due Tuesday 5/6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Essential Questions for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What were the major battles between 1942 and 1944 that turned the course of the war in the Allies fav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How and why did these battles turn the course of the war in the allies fav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271332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Task for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Watch </a:t>
            </a:r>
            <a:r>
              <a:rPr b="0" i="1" lang="en-US" sz="2800" spc="-1" strike="noStrike">
                <a:solidFill>
                  <a:srgbClr val="000000"/>
                </a:solidFill>
                <a:latin typeface="Didot"/>
              </a:rPr>
              <a:t>Apocalypse: World War Two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to learn about key turning point battles in each front in 194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estern Front (El-Alame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Eastern Front (Stalingr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Pacific Theater (Midw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As you watch take notes on each battle on the handout.  We will stop to discuss important details as well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5:27:25Z</dcterms:created>
  <dc:creator>Technology Department</dc:creator>
  <dc:description/>
  <dc:language>en-US</dc:language>
  <cp:lastModifiedBy>WPS</cp:lastModifiedBy>
  <dcterms:modified xsi:type="dcterms:W3CDTF">2014-04-29T17:22:11Z</dcterms:modified>
  <cp:revision>8</cp:revision>
  <dc:subject/>
  <dc:title>PowerPoint Presentation</dc:title>
</cp:coreProperties>
</file>