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E47A-9188-4C24-B986-8646AFB3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7DF-3825-4D17-8D17-7A1395343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169-756D-4151-AE11-0A13A1B9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2E9-1168-4FCD-B7D3-AFBA237E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920-2756-49E3-8B4D-86BCE58B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AAA-19CB-425F-AD39-C2DEACD7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BE9-5C72-4959-B841-3554443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616-5BEE-44D4-8B85-E80DE339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7E4-4B31-4E8C-876D-487C4A5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E99-CC43-4CCD-8C3F-CE15831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61A-2C85-4A2E-9627-C92FB8C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8BE-D0F7-4B39-9830-4F7ABA0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801-8527-4B45-A145-7FBF3E6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9D8-E997-44A4-85C5-7B67978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4BB-E71E-41A4-962A-9EA6DDE2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3: The War in the Pacif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, evaluate, and analyze the early phases of the War in the Pacific and its significance for World War Tw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0:26Z</dcterms:modified>
  <cp:revision>6</cp:revision>
  <dc:subject/>
  <dc:title>PowerPoint Presentation</dc:title>
</cp:coreProperties>
</file>