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FE14-47AB-47A9-B722-0D76771C1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99F8-B574-4261-ADA8-D2FF35E39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CA7F-B25F-4042-AE03-1606CACE3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44F0-95DF-4207-AFC6-388B683C6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033A-9A04-4289-814B-323A26DE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5B98-B6B2-47C0-B593-698858D51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E6AF-9129-4461-9C31-694D2C98F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5122-F372-497F-9545-2140D090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F758-D055-4B09-B6DD-AEEB4C86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9CE2-40DA-4510-BE2D-50B4A3C4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5E44-22CD-42DA-B80F-82F8441C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992C-428D-45E5-8B7E-3048A076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4DD9-EE9E-4875-A322-54799583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56D7-3DA1-433E-9DF1-BCFC20B8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BB5C-DE53-4C54-92B0-FB427582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F82A-06D8-47C1-945B-254440B36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L9: Stalemate Turns to Slaughter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80880" y="1295280"/>
            <a:ext cx="495324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The military strategy of WWI by 191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The Battles of Verdun and Som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The effect of these battles on the war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Video Clips &amp;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566720" indent="-9349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5486400" y="1295280"/>
            <a:ext cx="312408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Didot"/>
              </a:rPr>
              <a:t>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Pre-Writing Check #2 Due Mon 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8916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Phases</a:t>
            </a:r>
            <a:r>
              <a:rPr b="0" lang="ja-JP" sz="44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 Of World War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War of Movement (Race to the Sea) 19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Stalemate 19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Total War 1915 to 19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War of Attrition (Slaughter) 1916-19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Denouement 19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520" y="12952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Verdun 19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Somme 19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Analysis/Significance (Possible Question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How do Verdun &amp; Somme epitomize the offensive strategy and its fut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How are Verdun &amp; Somme mechanical wa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How does the War of Attrition phase turn traditional forms of fighting on its he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How are Verdun &amp; Somme part of the total war exper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9:09:46Z</dcterms:created>
  <dc:creator>Technology Department</dc:creator>
  <dc:description/>
  <dc:language>en-US</dc:language>
  <cp:lastModifiedBy>WPS</cp:lastModifiedBy>
  <dcterms:modified xsi:type="dcterms:W3CDTF">2014-01-23T18:55:34Z</dcterms:modified>
  <cp:revision>16</cp:revision>
  <dc:subject/>
  <dc:title>PowerPoint Presentation</dc:title>
</cp:coreProperties>
</file>