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17A3-CE59-486F-A37E-95F7EBA7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7AC9-2A86-4A3A-B353-D4979FE0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1CF-7B70-45CC-A6FD-4AF4E233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A28-2B5B-4F28-A705-B339858A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51A-B680-4457-AEAF-E6E7ED5C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CDF-30B7-4492-AEE9-1D923CD7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309-D24B-479E-BE9F-F2930822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025-4DBB-41C7-AF28-A23D949F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990-F61A-4215-B59E-79095B01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EDF-C100-4EEB-ABE2-F666EFA7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DCC-D12B-4C5A-9D88-155509A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E17-38E2-4A97-A9B1-D8CE570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FA8-9ECB-4884-A261-522FF906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1EE-1522-4F25-B732-9E958326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81D2-ACD4-448D-9D0E-37F63ECF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8: Genocide and Total War: The Armenian Geno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4114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relationship between genocide and total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Video: </a:t>
            </a:r>
            <a:r>
              <a:rPr b="1" i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752480"/>
            <a:ext cx="373356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reading - pages 139-146 required; rest optional.  Read for understanding of experience and logic of Verdun and Somme.  Due: L9 (Mon 1/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-In #2 Due: L12 (Mon 2/3 – New Da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5:03:16Z</dcterms:modified>
  <cp:revision>13</cp:revision>
  <dc:subject/>
  <dc:title>PowerPoint Presentation</dc:title>
</cp:coreProperties>
</file>