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DF31D-780E-4EAE-858E-4ED16972A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37283-9205-48AE-9184-532A56A73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BF1C-B014-4574-8C17-781596C7C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B0F6-754C-4EBF-B727-29E895CCE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E495-2297-452D-984C-FBD722107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54D2-6771-4561-B029-E80EE8F52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3FD1-B162-45B7-8F81-204B1ACCB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E7B3-CE64-4971-B171-590FFEAF0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A093-1A49-4228-B2DF-C2A409D1E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7446-C6CD-44E6-A734-951E1D950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CF0B-9B6F-464E-B1B6-5E06BB6CB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3278-315F-461E-A009-00546A14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745D-0AB0-4EDA-82AE-0DF3E0C7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DFFA-799C-4E43-A2E8-E7E84003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61D2B-246B-451B-8D72-77B2E14DE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itle 1"/>
          <p:cNvSpPr/>
          <p:nvPr/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idot"/>
              </a:rPr>
              <a:t>L6: World War One Becomes a Total 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380880" y="1752480"/>
            <a:ext cx="5105520" cy="487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Agen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Objective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To understand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The effect of World War One on colonists, civilians, women, children and ethnic minoriti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What total war is, why it emerged, and its logi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Schedule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1.   Video:  </a:t>
            </a:r>
            <a:r>
              <a:rPr b="1" i="1" lang="en-US" sz="2200" spc="-1" strike="noStrike">
                <a:solidFill>
                  <a:srgbClr val="000000"/>
                </a:solidFill>
                <a:latin typeface="Didot"/>
              </a:rPr>
              <a:t>The Great W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2.  Discussion of Video and </a:t>
            </a:r>
            <a:r>
              <a:rPr b="1" i="1" lang="en-US" sz="2200" spc="-1" strike="noStrike">
                <a:solidFill>
                  <a:srgbClr val="000000"/>
                </a:solidFill>
                <a:latin typeface="Didot"/>
              </a:rPr>
              <a:t>Rites of Sp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566720" indent="-9349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5715000" y="1752480"/>
            <a:ext cx="297180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</a:rPr>
              <a:t>Ho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Pre-Writing Check #1 Due: L8 (Wed 1/2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Didot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289160" indent="-5335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Didot"/>
              </a:rPr>
              <a:t>The Great War: Total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We will watch an excerpt from the PBS video series </a:t>
            </a:r>
            <a:r>
              <a:rPr b="0" i="1" lang="en-US" sz="2400" spc="-1" strike="noStrike">
                <a:solidFill>
                  <a:srgbClr val="000000"/>
                </a:solidFill>
                <a:latin typeface="Didot"/>
              </a:rPr>
              <a:t>The Great War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 describing how World War One was a Total Wa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As we watch, please do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Take notes on how World War One effected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Wom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Civil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Think about: What is total w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Think about: Why did total war emerg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Think about: What was the logic of total w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Whole Class Discus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(supplemented </a:t>
            </a:r>
            <a:r>
              <a:rPr b="0" i="1" lang="en-US" sz="2400" spc="-1" strike="noStrike">
                <a:solidFill>
                  <a:srgbClr val="000000"/>
                </a:solidFill>
                <a:latin typeface="Didot"/>
              </a:rPr>
              <a:t>Rites of Spring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5410080" y="5218200"/>
            <a:ext cx="373392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9T19:09:46Z</dcterms:created>
  <dc:creator>Technology Department</dc:creator>
  <dc:description/>
  <dc:language>en-US</dc:language>
  <cp:lastModifiedBy>WPS</cp:lastModifiedBy>
  <dcterms:modified xsi:type="dcterms:W3CDTF">2014-01-15T03:10:53Z</dcterms:modified>
  <cp:revision>9</cp:revision>
  <dc:subject/>
  <dc:title>PowerPoint Presentation</dc:title>
</cp:coreProperties>
</file>