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5CF2-30A1-4111-9F28-7E6D28DDD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A753-D127-4755-B4AA-5910AE0AA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B8B-B954-4DB4-9D37-AB014FE1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0FD-4118-4DBA-9AC3-E5760477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EE3-F84E-43F9-94EC-00D4701A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78A-0116-4A2E-B53C-781B6BAB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99F-ED34-46A8-8C8C-1B88DA19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625-68D8-4EDC-869E-49BBB776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656-85F0-434A-B3E1-F347924F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CFF-C3E1-4F9B-9020-AF0D7641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1F6-7538-4564-B32C-6E24E6CC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2F2-658C-41F4-950E-845B5E8D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14C-288D-4431-BC7D-34514712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EF9-D06C-4522-ACB7-37709CEC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ADB9-649D-4A86-88EB-16D88B6DA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6: World War One Becomes a Total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510552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effect of World War One on colonists, civilians, women, children and ethnic minor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total war is, why it emerged, and its log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1.   Video: 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The Great W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2.  Discussion of Video and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Rites of Sp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752480"/>
            <a:ext cx="29718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 #1 Due: L8 (Wed 1/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Didot"/>
              </a:rPr>
              <a:t>The Great War: Tota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 will watch an excerpt from the PBS video series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The Great War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describing how World War One was a Total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As we watch, please do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ake notes on how World War One effected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o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ivil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at is total w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y did total war emer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at was the logic of total w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ole Class 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supplemented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410080" y="5218200"/>
            <a:ext cx="373392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15T03:10:53Z</dcterms:modified>
  <cp:revision>9</cp:revision>
  <dc:subject/>
  <dc:title>PowerPoint Presentation</dc:title>
</cp:coreProperties>
</file>