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A5CC-90F3-4F46-96D7-A90210627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361F-4EA8-4CE9-9679-87434120D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B69-317C-4340-B2BA-8013E0A0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CD9C-9CCF-4D33-9C16-BBC3EBB2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1EDB-4E2A-4C5F-947A-292E21EF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838-890B-47AC-A9CA-AB2BCC54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BA6-32E2-4D29-A405-F77B71D2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E1D8-650B-427B-AB16-4D60614A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89E-91BB-4042-8DE8-AA477174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DD9-D26E-42BB-9D71-ECB37DC7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09D0-C2EA-41D7-9800-8F7C4D5E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84C1-2ADD-4367-8C3D-D7EEF7FC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60E-151F-405B-B3AB-D7597AFD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3412-0BB7-413E-A0A4-DD3F82C7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96B6-5E73-4264-B162-CF8B1544A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5: Trench Warfare and the Emotional Wounds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752480"/>
            <a:ext cx="510552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1.       The effect of trench warfare on soldiers</a:t>
            </a:r>
            <a:r>
              <a:rPr b="1" lang="ja-JP" sz="20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 psych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2.       What were the long-term physical and psychological effects of trench warf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How did trench warfare and shell shock change how people thought about masculinity, war, and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he physical &amp; psychological experiences of war: Group Work and Whole Class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15000" y="1752480"/>
            <a:ext cx="29718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Read selections on Total War from </a:t>
            </a:r>
            <a:r>
              <a:rPr b="1" i="1" lang="en-US" sz="2400" spc="-1" strike="noStrike">
                <a:solidFill>
                  <a:srgbClr val="000000"/>
                </a:solidFill>
                <a:latin typeface="Didot"/>
              </a:rPr>
              <a:t>Rites of Spring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Due L6 (Thurs 1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Pre-Writing Check #1 Due: L8 (Wed 1/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rench Warfare and the Emotional Wounds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510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Last class we talked about the physical experiences and military tactics of trench warfare, today we want to talk about the emotional experiences of trench warf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e will explore these issues in two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Discussion of </a:t>
            </a:r>
            <a:r>
              <a:rPr b="0" i="1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All Quiet on the Western 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Discussion of Video Cl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Whole Class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We will have a whole class discussion of the ideas you generated in your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445000" y="1676520"/>
            <a:ext cx="3699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376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  <a:ea typeface="Didot"/>
              </a:rPr>
              <a:t>Discussion of </a:t>
            </a:r>
            <a:r>
              <a:rPr b="0" i="1" lang="en-US" sz="3600" spc="-1" strike="noStrike">
                <a:solidFill>
                  <a:srgbClr val="000000"/>
                </a:solidFill>
                <a:latin typeface="Didot"/>
                <a:ea typeface="Didot"/>
              </a:rPr>
              <a:t>All Quiet on the Western Fr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Discuss the following with your group using SPECIFICS from </a:t>
            </a:r>
            <a:r>
              <a:rPr b="0" i="1" lang="en-US" sz="2800" spc="-1" strike="noStrike">
                <a:solidFill>
                  <a:srgbClr val="000000"/>
                </a:solidFill>
                <a:latin typeface="Didot"/>
              </a:rPr>
              <a:t>AQWF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to supp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hat were the emotional experiences of trench warf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How were these emotional experiences directly tied to new technologies and combat techniq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hat effects did they have on soldiers during and after the w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How did these experiences shape soldiers</a:t>
            </a:r>
            <a:r>
              <a:rPr b="0" lang="ja-JP" sz="28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attitude toward w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he Physical and Psychological Aftermath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To deepen your understanding of these issues, we will watch a brief video showing the physical and psychological trauma soldiers faced after the w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hell Shock</a:t>
            </a: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hat we know know as Combat Stress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During WW1 was considered a psychiatric illness resulting from injury to the nerves during comb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First time that war veterans experience long-term psychological trauma on such a wide sc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arning: Some images are graphi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Discuss with your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791320" y="4767120"/>
            <a:ext cx="33526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Conclusion: Putting it All Togeth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Whole Clas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What were the physical and emotional effects of trench warfa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How did these experiences in the trenches and their long-term effects shape masculinity and masculine ident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How people thought about w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How people thought about real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Didot"/>
              </a:rPr>
              <a:t>Trench warfare was a pivotal moment in the emotional/psychological experience of the war.  Explai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Early Months of the War             Remainder of the W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419720" y="2590920"/>
            <a:ext cx="457200" cy="283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Engravers MT"/>
              </a:rPr>
              <a:t>Trench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Engravers MT"/>
              </a:rPr>
              <a:t>W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Engravers MT"/>
              </a:rPr>
              <a:t>f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23:07:34Z</dcterms:created>
  <dc:creator>WPS</dc:creator>
  <dc:description/>
  <dc:language>en-US</dc:language>
  <cp:lastModifiedBy>WPS</cp:lastModifiedBy>
  <cp:lastPrinted>2010-01-13T15:40:33Z</cp:lastPrinted>
  <dcterms:modified xsi:type="dcterms:W3CDTF">2014-01-14T19:31:26Z</dcterms:modified>
  <cp:revision>33</cp:revision>
  <dc:subject/>
  <dc:title>PowerPoint Presentation</dc:title>
</cp:coreProperties>
</file>