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64F5-9EE5-4A62-8210-47F2026C5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015B-7C35-410F-90B1-168C66B44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E7C-1220-42DD-BB18-B58CA559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43E-EA1F-42BF-B05A-8241849C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F7B-3580-4ABC-BA78-4EE06F65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576-4ED9-4B2A-B05B-D63D42FB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C2C-CF32-4CC7-A404-7A2E356F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16F-1EAB-41DE-B33E-6A0A7583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982-06A3-4AD7-AB6C-7DCF20F6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9E1-6B96-4E92-B932-BE90512C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F87-A7F8-4423-9D62-67DE3F34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9C8-E634-4CE5-8B5D-7BF7C9E8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189-A7FF-4EE9-A01E-B780CA66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D58-8DC1-4FEB-8875-E699DB95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0642-62F0-4D6A-8EAA-BF1D0BFED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5: 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1.       The effect of trench warfare on soldiers</a:t>
            </a:r>
            <a:r>
              <a:rPr b="1" lang="ja-JP" sz="20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 psych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2.       What were the long-term physical and psychological effects of trench warf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did trench warfare and shell shock change how people thought about masculinity, war, and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physical &amp; psychological experiences of war: Group Work and 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Read selections on Total War from </a:t>
            </a: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Due L6 (Thurs 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Last class we talked about the physical experiences and military tactics of trench warfare, today we want to talk about the emotional experiences of trench warf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explore these issues in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</a:t>
            </a:r>
            <a:r>
              <a:rPr b="0" i="1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All Quiet on the Western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Video Cl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e will have a whole class discussion of the ideas you generated in you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45000" y="1676520"/>
            <a:ext cx="3699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376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Discussion of </a:t>
            </a:r>
            <a:r>
              <a:rPr b="0" i="1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All Quiet on the Western Fr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Discuss the following with your group using SPECIFICS from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QWF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emotional experiences of trench warf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were these emotional experiences directly tied to new technologies and combat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effects did they have on soldiers during and after the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did these experiences shape soldiers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attitude toward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Physical and Psychological Aftermath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o deepen your understanding of these issues, we will watch a brief video showing the physical and psychological trauma soldiers faced after the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hell Shock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at we know know as Combat Stress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uring WW1 was considered a psychiatric illness resulting from injury to the nerves during comb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irst time that war veterans experience long-term psychological trauma on such a wide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arning: Some images are graph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iscuss with you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791320" y="4767120"/>
            <a:ext cx="33526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Conclusion: Putting it All Toge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hat were the physical and emotional effects of trench warf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did these experiences in the trenches and their long-term effects shape masculinity and masculine ident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w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real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Didot"/>
              </a:rPr>
              <a:t>Trench warfare was a pivotal moment in the emotional/psychological experience of the war.  Explai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Early Months of the War             Remainder of the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419720" y="2590920"/>
            <a:ext cx="457200" cy="283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Trench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W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f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3:07:34Z</dcterms:created>
  <dc:creator>WPS</dc:creator>
  <dc:description/>
  <dc:language>en-US</dc:language>
  <cp:lastModifiedBy>WPS</cp:lastModifiedBy>
  <cp:lastPrinted>2010-01-13T15:40:33Z</cp:lastPrinted>
  <dcterms:modified xsi:type="dcterms:W3CDTF">2014-01-14T19:31:26Z</dcterms:modified>
  <cp:revision>33</cp:revision>
  <dc:subject/>
  <dc:title>PowerPoint Presentation</dc:title>
</cp:coreProperties>
</file>