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181-45B0-4471-900E-041C38F2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106-4D4E-45DF-BFDB-B27D987E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4B4-844E-4CD6-9C68-054B8B38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B71-D6B2-464A-8628-3D6AD217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37D-71E3-40B6-A31B-8350ED3D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428-6821-42E3-9A0F-DCFA4909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582-CBB4-439C-8F81-6A637FC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74B-F961-4636-8B28-5FE1E4F3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C52-9E30-427C-B107-7BC0B13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6C5-0B64-482B-B787-22D19AB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707-395E-45FD-97B7-310B7D2E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C9F-B8D0-4F8B-9445-679D279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2B0-9AE5-457C-A7D8-6354286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65E-465A-425E-BEE2-2094A76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D192-3D96-4FCD-AEFE-8B3FFA16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7: Life Under Le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0880" y="1371600"/>
            <a:ext cx="5181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at political, economic, and cultural life was like under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rule from 1921 to 19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The centrality of the proletariat to Lenin</a:t>
            </a:r>
            <a:r>
              <a:rPr b="1" lang="ja-JP" sz="23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s vision for political, economic, and cultural lif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Why Lenin adopted these particular progr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Group Work - St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15000" y="1371600"/>
            <a:ext cx="31240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Work on prewriting check-in.  Rolling Dea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89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44:24Z</dcterms:created>
  <dc:creator>Technology Department</dc:creator>
  <dc:description/>
  <dc:language>en-US</dc:language>
  <cp:lastModifiedBy>WPS</cp:lastModifiedBy>
  <dcterms:modified xsi:type="dcterms:W3CDTF">2014-03-06T13:05:16Z</dcterms:modified>
  <cp:revision>13</cp:revision>
  <dc:subject/>
  <dc:title>PowerPoint Presentation</dc:title>
</cp:coreProperties>
</file>