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46A4-4C9D-4ED6-9761-2C7A8B04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709-C0D9-4721-A342-AB63EDB1B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ABA-7D3D-4105-AC9D-DF6A6D87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67C-7315-4CC7-8BAA-7AFE0D9F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0DF-654B-43BA-BE77-D780A9A2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AF8-F83A-46B1-9840-917A0C92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6E7-CFC5-4051-9D2C-2C10935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97D-4F46-4536-A3EA-C0412E47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6AC-8D44-4EAB-A6E6-79762A6B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D4F-F8AE-442A-887F-24EAA6AB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737-5B8F-4F8B-83F7-684EDD8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0F8-A892-4F2F-B53A-BBBD4AD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050-96A0-4531-A541-5AEA019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265-317D-4125-96F8-CB185E7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D33B-7BF8-471A-90F5-708EE3018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7: Life Under Le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at political, economic, and cultural life was like under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rule from 1921 to 1924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centrality of the proletariat to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vision for political, economic, and cultural lif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y Lenin adopted these particular progr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Group Work - St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Work on prewriting check-in.  Rolling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44:24Z</dcterms:created>
  <dc:creator>Technology Department</dc:creator>
  <dc:description/>
  <dc:language>en-US</dc:language>
  <cp:lastModifiedBy>WPS</cp:lastModifiedBy>
  <dcterms:modified xsi:type="dcterms:W3CDTF">2014-03-06T13:05:16Z</dcterms:modified>
  <cp:revision>13</cp:revision>
  <dc:subject/>
  <dc:title>PowerPoint Presentation</dc:title>
</cp:coreProperties>
</file>