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87AC-3DFD-41B5-AD20-0979CD8C3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2E49-EF7E-4D93-BFE9-5B60AB9A0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6AC-36D8-4555-AC37-07D745D9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30B-1FD1-49DD-83FF-0743B0A1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3C1-A990-4F14-84B6-2DDA5A81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52A-88A5-408F-849A-45241281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FF2-1432-4820-B410-C5C98786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E2F-B724-4022-B956-FE9FA8F5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D5F-10B1-4D4C-911C-9BF3DFE5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EA2-C181-47DD-9329-038E044C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81F-347E-42FC-85EF-AAB3AC31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B10-E01E-4894-8F40-5B739BA6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6A8-8CFB-4057-A81D-CD704C61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2607-598A-484E-8068-F3E9044B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9D72-AF6F-44BC-BCB2-D8D348E2B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228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</a:rPr>
              <a:t>L4: Leni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371600"/>
            <a:ext cx="518184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philosophy of Vladimir Len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How Lenin</a:t>
            </a:r>
            <a:r>
              <a:rPr b="1" lang="ja-JP" sz="26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s philosophy relates to that of Mar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How Lenin</a:t>
            </a:r>
            <a:r>
              <a:rPr b="1" lang="ja-JP" sz="26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s philosophy reflects the Russian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Fishbowl Discu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371600"/>
            <a:ext cx="31240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Work on writing portfolio and first prewriting check 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620720" indent="-896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Rank your Top 3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Historical Materialism/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Party/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Opportunism, Pragmatism, and Mar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One: Historical Materialism/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 build on Marx’s historical materialism?  What changes does he m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y does Lenin see imperialism as the eve of the socialist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’s view of imperialism make it possible for him to see that communism could in fact come to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Two: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For Lenin, in what types of nations can communism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is this related to his view of imperialis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 communist revolutions unfold in each type of n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’s theory of communist revolution in nonindustrialized nations directly connect to the historical experience of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Three: Party/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is the role of the party in Lenin’s theory of revolution?  How is this a departure from Mar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happens to the party after the rev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How does Lenin invert Marx to prioritize politics over econom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oup Four: Opportunism, Pragmatism, and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Is Lenin a pragmatist, applying Marx to Russia?  Does Lenin extend Marx?  Make it applicable to the real world rather than studying it in the abstr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Can we say that Marx is a philosopher and Lenin is a social activ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Does Lenin distort Mar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Is Lenin an opportun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53:39Z</dcterms:created>
  <dc:creator>Technology Department</dc:creator>
  <dc:description/>
  <dc:language>en-US</dc:language>
  <cp:lastModifiedBy>WPS</cp:lastModifiedBy>
  <dcterms:modified xsi:type="dcterms:W3CDTF">2014-02-28T15:55:10Z</dcterms:modified>
  <cp:revision>15</cp:revision>
  <dc:subject/>
  <dc:title>PowerPoint Presentation</dc:title>
</cp:coreProperties>
</file>