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800B-FBCB-4E27-90FF-F4D2A37C3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4BDC-EBE7-49C2-A2B9-9C10DFCD3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A77-582B-4A49-BC68-4C555700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42B-D99D-460D-BDAF-7B7D9A60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086-0F41-41C2-8899-A52B1016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5FE-2699-4CA8-9E5C-4A9976A0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38E-AEB7-4AE4-B9DA-C528332E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72A-BE38-419B-B8EE-F857E7D7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CE0-93D0-42D4-BC0B-AF351F41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0AC5-E292-4ED2-A7D3-91B691C6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FB7-EFC3-4B77-9B67-7BD6A4C9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08B-D78F-4CCD-9FF8-1E079ACA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099-0947-4B44-B0CE-B748A284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0FE-A212-4412-AACF-A9DB1E22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D673-7639-4C2C-94EE-A040EDAB8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</a:rPr>
              <a:t>L4: Leni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371600"/>
            <a:ext cx="518184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philosophy of Vladimir Len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How Lenin</a:t>
            </a:r>
            <a:r>
              <a:rPr b="1" lang="ja-JP" sz="26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s philosophy relates to that of Mar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How Lenin</a:t>
            </a:r>
            <a:r>
              <a:rPr b="1" lang="ja-JP" sz="26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s philosophy reflects the Russian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Fishbowl Discu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371600"/>
            <a:ext cx="31240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Work on writing portfolio and first prewriting check 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620720" indent="-896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Rank your Top 3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Historical Materialism/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Party/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Opportunism, Pragmatism, and Ma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One: Historical Materialism/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 build on Marx’s historical materialism?  What changes does he m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y does Lenin see imperialism as the eve of the socialist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’s view of imperialism make it possible for him to see that communism could in fact come to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Two: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For Lenin, in what types of nations can communism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is this related to his view of imperialis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 communist revolutions unfold in each type of n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’s theory of communist revolution in nonindustrialized nations directly connect to the historical experience of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Three: Party/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is the role of the party in Lenin’s theory of revolution?  How is this a departure from Mar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happens to the party after the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 invert Marx to prioritize politics over econom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Four: Opportunism, Pragmatism, and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Is Lenin a pragmatist, applying Marx to Russia?  Does Lenin extend Marx?  Make it applicable to the real world rather than studying it in the abstr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Can we say that Marx is a philosopher and Lenin is a social activ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Does Lenin distort Mar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Is Lenin an opportun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53:39Z</dcterms:created>
  <dc:creator>Technology Department</dc:creator>
  <dc:description/>
  <dc:language>en-US</dc:language>
  <cp:lastModifiedBy>WPS</cp:lastModifiedBy>
  <dcterms:modified xsi:type="dcterms:W3CDTF">2014-02-28T15:55:10Z</dcterms:modified>
  <cp:revision>15</cp:revision>
  <dc:subject/>
  <dc:title>PowerPoint Presentation</dc:title>
</cp:coreProperties>
</file>