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36A0-A021-45F7-888B-6BA74C0C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3C74-65D2-4C2B-B9E8-30D9AE88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2FF-EF97-4423-B08C-80EC0E90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958-338C-4CEF-A1AA-9397188D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427-D37B-4534-8119-09E707E4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C9F-D649-4236-8BE1-52A82329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A6A-48C8-4688-815F-E8ABEAE5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9C9-AAA6-4687-BD38-ED09885A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BA2-569B-4AEE-8576-096D45FA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6CD-D0B9-4212-B80C-23C9FE58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E02-B360-4024-899F-21FAD296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BCA-BA40-4880-B8FD-A8B822B8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177-7DD3-4953-80AD-6347E9DA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B79-8B60-46F1-BB92-ABAF94C9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21BE-704C-4A0D-8087-848A12D01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</a:rPr>
              <a:t>L4: Leni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philosophy of Vladimir Len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lates to that of Mar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flects the Russian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Fishbowl 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Rank your Top 3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Historical Materialism/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Party/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Opportunism, Pragmatism, and Ma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One: Historical Materialism/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build on Marx’s historical materialism?  What changes does he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y does Lenin see imperialism as the eve of the social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view of imperialism make it possible for him to see that communism could in fact come to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wo: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For Lenin, in what types of nations can communism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is this related to his view of imperial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 communist revolutions unfold in each type of 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theory of communist revolution in nonindustrialized nations directly connect to the historical experience of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hree: Party/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the role of the party in Lenin’s theory of revolution?  How is this a departure from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happens to the party after the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invert Marx to prioritize politics over econo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Four: Opportunism, Pragmatism, and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 pragmatist, applying Marx to Russia?  Does Lenin extend Marx?  Make it applicable to the real world rather than studying it in the abs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Can we say that Marx is a philosopher and Lenin is a social activ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Does Lenin distort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n opportun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8T15:55:10Z</dcterms:modified>
  <cp:revision>15</cp:revision>
  <dc:subject/>
  <dc:title>PowerPoint Presentation</dc:title>
</cp:coreProperties>
</file>