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6748-14F4-4902-B294-383E144E7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3CB1-05B4-4259-8874-409A0D72A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BC5F-8AB3-4044-A429-899BE489B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4B1D-52C7-47AE-90D9-8A21F5A21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DEC-D19A-4279-AD75-3A4DC939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D85-9D5E-44CC-8A2E-4410EA83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40E-1687-4178-B1DC-169DD3F5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609-E269-4127-A70D-45D95950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B920-8520-48D9-B059-2EE2BA5F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2CC-320D-4804-A7B9-7C310034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5D1-CAA6-4085-A337-B245385A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F2D-D49E-48D2-A42D-44017FD7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248-AADA-4C81-86B3-47A998D4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42F-DA61-4CDD-9C10-DABB9243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B883-8C0C-4906-8EE6-62E41A3D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371-7DD2-4737-93E4-38CDEEEA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7809-4DE5-48D9-A7FF-1E578D333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3: A Brief History of Russia: 1861-19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066680"/>
            <a:ext cx="434340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Key events in Russian history between 1861 and 1905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he essential experiences of the Russian people during this tim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How these experiences might lead to the rise of Marxism in Russ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Brainst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76920" y="1066680"/>
            <a:ext cx="396216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Read chapter on “Leninism.”  We will have a series of fishbowl discussions on the following topic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Historical materialism/imperialis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Revolution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Party/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Opportunism, pragmatism, and Marx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Choose one to be an “expert” in.  Due Fri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ork on writing portfolio and first prewriting check 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hat was the course/experience of Russian history from 1861 to 190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hy was Russia the first nation to have a communist rev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Given Marxism, why is this paradox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3002040" y="4191120"/>
            <a:ext cx="375444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Brainstorm: Russian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hat do you remember about Russian hi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5130720" y="2590920"/>
            <a:ext cx="4013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A Brief History of Russia 1861-19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Our task for today will be to learn about and summarize Russian history from 1861 to 1905 (the pivotal background period for the coming Russian Revol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To do this we will have a whole group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Circle 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Photos to look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http://blogs.denverpost.com/captured/2009/10/21/color-photography-from-russian-in-the-early-1900s/544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http://upload.wikimedia.org/wikipedia/commons/e/e0/Burlakwomen.jp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53:39Z</dcterms:created>
  <dc:creator>Technology Department</dc:creator>
  <dc:description/>
  <dc:language>en-US</dc:language>
  <cp:lastModifiedBy>WPS</cp:lastModifiedBy>
  <dcterms:modified xsi:type="dcterms:W3CDTF">2014-02-25T18:57:41Z</dcterms:modified>
  <cp:revision>15</cp:revision>
  <dc:subject/>
  <dc:title>PowerPoint Presentation</dc:title>
</cp:coreProperties>
</file>