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13A-2308-42C7-991A-F403E249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C01-9125-4FAA-9EC0-FFCF6328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780-F3F7-4891-8860-DEF43BE9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3D5-1F08-4485-B5CF-3780C9FD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8D4-ACEF-4DF5-AD99-37A9F868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2AF-3E8D-4D68-A67E-2AF3BF5F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A1F-2946-4345-8A1F-36DC8BF1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45D-CC5F-4E37-8F59-B2AD83C4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420-E037-45C2-B968-481EF7FD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15E-9EF8-496D-99BB-97915C5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2F6-CAB7-496B-A3BC-138A2C28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BF3-17AF-43F7-B591-5ADBFC82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EFE-89C5-40D4-B87D-2B85ABF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7F6-7E03-4687-B6B0-4A4E95B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14C-6998-4BA3-978A-2013BA6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767-276A-437A-B47A-80008CF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718-058A-4512-B574-F308987B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3: A Brief History of Russia: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Key events in Russian history between 1861 and 190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essential experiences of the Russian people during this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How these experiences might lead to the rise of Marxism in Russ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Brainst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066680"/>
            <a:ext cx="3962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Read chapter on “Leninism.”  We will have a series of fishbowl discussions on the following topic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istorical materialism/imperial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Revolu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Party/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Opportunism, pragmatism, and Mar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Choose one to be an “expert” in.  Due Fri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was the course/experience of Russian history from 1861 to 19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y was Russia the first nation to have a commun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Given Marxism, why is this paradox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002040" y="4191120"/>
            <a:ext cx="3754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Brainstorm: Russia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do you remember about Russian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130720" y="2590920"/>
            <a:ext cx="4013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A Brief History of Russia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ur task for today will be to learn about and summarize Russian history from 1861 to 1905 (the pivotal background period for the coming Russian Rev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 do this we will have a whole group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Circle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Photos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blogs.denverpost.com/captured/2009/10/21/color-photography-from-russian-in-the-early-1900s/544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upload.wikimedia.org/wikipedia/commons/e/e0/Burlakwomen.j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5T18:57:41Z</dcterms:modified>
  <cp:revision>15</cp:revision>
  <dc:subject/>
  <dc:title>PowerPoint Presentation</dc:title>
</cp:coreProperties>
</file>