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79A17-C6A2-4F8E-911E-841FE81C8B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98B0B-B178-462E-A750-B1FD46A77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8D59A-1FF4-4162-8F4B-5773CD0286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3374C-F3AA-48F6-82CA-D53D913D8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22ED-951D-4C72-A6CF-43C039707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338B-5477-40F0-A0FB-D2043BEA1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8BC2-971A-41E7-B833-67CD1E740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7586-083B-43F5-93E9-872408940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F38A-1597-4546-B6AA-313E6BFC1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B3D3-971A-439A-A408-9D786047F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A4F2-55FD-4195-A8E4-567A686B0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5867-0ABC-42BE-A9EE-F91F7BA68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105B-3729-498E-AF55-B5180397B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9778-DB2C-4A07-80F3-3D50951C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ACA7-32F9-4E56-B6F7-B60FF9438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4102-1119-4612-A40F-75CC9CADD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9C2BC-44CC-43D7-8013-30012DCA62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itle 1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idot"/>
              </a:rPr>
              <a:t>L3: A Brief History of Russia: 1861-190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380880" y="1066680"/>
            <a:ext cx="4343400" cy="556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8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000000"/>
                </a:solidFill>
                <a:uFillTx/>
                <a:latin typeface="Didot"/>
              </a:rPr>
              <a:t>Agend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000000"/>
                </a:solidFill>
                <a:uFillTx/>
                <a:latin typeface="Didot"/>
              </a:rPr>
              <a:t>Objective</a:t>
            </a:r>
            <a:r>
              <a:rPr b="1" lang="en-US" sz="23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dot"/>
              </a:rPr>
              <a:t>To understand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75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dot"/>
              </a:rPr>
              <a:t>Key events in Russian history between 1861 and 1905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75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dot"/>
              </a:rPr>
              <a:t>The essential experiences of the Russian people during this tim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75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dot"/>
              </a:rPr>
              <a:t>How these experiences might lead to the rise of Marxism in Russi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000000"/>
                </a:solidFill>
                <a:uFillTx/>
                <a:latin typeface="Didot"/>
              </a:rPr>
              <a:t>Schedule</a:t>
            </a:r>
            <a:r>
              <a:rPr b="1" lang="en-US" sz="23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75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dot"/>
              </a:rPr>
              <a:t>Brainstor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75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dot"/>
              </a:rPr>
              <a:t>Whole Class Discuss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75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273320" indent="-5335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4876920" y="1066680"/>
            <a:ext cx="3962160" cy="5486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 algn="ctr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</a:rPr>
              <a:t>Home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Read chapter on “Leninism.”  We will have a series of fishbowl discussions on the following topic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ＭＳ Ｐゴシック"/>
              </a:rPr>
              <a:t>Historical materialism/imperialism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ＭＳ Ｐゴシック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ＭＳ Ｐゴシック"/>
              </a:rPr>
              <a:t>Revolution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ＭＳ Ｐゴシック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ＭＳ Ｐゴシック"/>
              </a:rPr>
              <a:t>Party/st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ＭＳ Ｐゴシック"/>
              </a:rPr>
              <a:t>Opportunism, pragmatism, and Marx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ＭＳ Ｐゴシック"/>
              </a:rPr>
              <a:t>Choose one to be an “expert” in.  Due Frida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Work on writing portfolio and first prewriting check i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</a:rPr>
              <a:t>Essential Ques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What was the course/experience of Russian history from 1861 to 1905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Why was Russia the first nation to have a communist revolu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Given Marxism, why is this paradoxic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3002040" y="4191120"/>
            <a:ext cx="3754440" cy="26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</a:rPr>
              <a:t>Brainstorm: Russian 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What do you remember about Russian histo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5130720" y="2590920"/>
            <a:ext cx="40132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idot"/>
              </a:rPr>
              <a:t>A Brief History of Russia 1861-190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Our task for today will be to learn about and summarize Russian history from 1861 to 1905 (the pivotal background period for the coming Russian Revolu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To do this we will have a whole group discu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Circle Up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Photos to look 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idot"/>
                <a:ea typeface="ＭＳ Ｐゴシック"/>
              </a:rPr>
              <a:t>http://blogs.denverpost.com/captured/2009/10/21/color-photography-from-russian-in-the-early-1900s/544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idot"/>
                <a:ea typeface="ＭＳ Ｐゴシック"/>
              </a:rPr>
              <a:t>http://upload.wikimedia.org/wikipedia/commons/e/e0/Burlakwomen.jp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17:53:39Z</dcterms:created>
  <dc:creator>Technology Department</dc:creator>
  <dc:description/>
  <dc:language>en-US</dc:language>
  <cp:lastModifiedBy>WPS</cp:lastModifiedBy>
  <dcterms:modified xsi:type="dcterms:W3CDTF">2014-02-25T18:57:41Z</dcterms:modified>
  <cp:revision>15</cp:revision>
  <dc:subject/>
  <dc:title>PowerPoint Presentation</dc:title>
</cp:coreProperties>
</file>