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FD1-D215-4254-9C6E-E9B1FC2D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8FA-37BD-4C4A-9CC4-709B0B5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7B3-A509-4B84-B128-7B40EF0A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477-5C49-490C-A2EF-20319A5B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6AE-7F01-4AE8-8BE8-6608F43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000-0827-4CCE-B8CF-54ACBEF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6C1-7024-404C-929B-984DB15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7E4-2306-47DF-96CE-36BF2C1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7A1-D671-4769-889F-8D65EA0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4FB-BC7B-4990-8C18-BCC33D3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248-1778-416B-89A5-81EC439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BE1-B7F6-4E35-BB38-DB48A52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EC2-B1C4-401F-87DF-90515EBE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Lesson 19: 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4920" y="1295280"/>
            <a:ext cx="449568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  To engage in a discussion of Nazi philosophy with particular focus to how it connects to the social change occurring in the Weimar Republic and how it previews the events of the Holoca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Brief intro to Naz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952880" y="1295280"/>
            <a:ext cx="365760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Continue to work on pre-writing (1&amp;2): Rolling Deadline…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Last Day to Turn in Working Paper: Fri 4/11 (New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Unit Test &amp; HW: Mon 4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</a:rPr>
              <a:t>Naz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deology developed by Adolf Hitler and practiced by the Nazi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rticulated in Hitl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Mein Kampf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z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erived from the first two syllables of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Nationalsozialistische Deutsche Arbeiterpartei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National Socialist German Worker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 Party, NS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On the far right of the political spectrum (extreme conserv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ascism (Mussol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ocial Darwinism (Herbert Spen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German Romantic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Volkish Thou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11880" y="4089240"/>
            <a:ext cx="28321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2:54:15Z</dcterms:created>
  <dc:creator>Technology Department</dc:creator>
  <dc:description/>
  <dc:language>en-US</dc:language>
  <cp:lastModifiedBy>WPS</cp:lastModifiedBy>
  <dcterms:modified xsi:type="dcterms:W3CDTF">2014-04-01T15:39:06Z</dcterms:modified>
  <cp:revision>6</cp:revision>
  <dc:subject/>
  <dc:title>PowerPoint Presentation</dc:title>
</cp:coreProperties>
</file>