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83C-6B97-4FF2-BD01-C99BF6F4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5EC-0E04-461B-9D1F-FF407807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2EB6-E228-4E78-B12B-0650503F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FE3-2829-414D-9DE0-FA0CE2D6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069-AAFA-4896-9D87-C696394F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F41-0D7C-4272-A1E4-4EB1AAAF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6DC-F033-4512-B9CA-B956C550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F57-4FD4-45C5-9303-A09BF39D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8D4F-9CF5-42E4-A6B0-F735CD98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140-4A21-4C1F-9A2B-CEEFE78C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47A-2DCA-457E-A939-83BB8C56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935-C054-45D3-A7B6-3EB03617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05B9-656C-4EED-9687-905549E64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Lesson 19: Naz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4920" y="1295280"/>
            <a:ext cx="449568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1.     To engage in a discussion of Nazi philosophy with particular focus to how it connects to the social change occurring in the Weimar Republic and how it previews the events of the Holocau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Brief intro to Nazis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952880" y="1295280"/>
            <a:ext cx="365760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Fri 4/11 (New 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Unit Test &amp; HW: Mon 4/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Naz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Ideology developed by Adolf Hitler and practiced by the Nazi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Articulated in Hitler</a:t>
            </a: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Mein Kampf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19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Nazi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derived from the first two syllables of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Nationalsozialistische Deutsche Arbeiterpartei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National Socialist German Worker</a:t>
            </a: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 Party, NSD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On the far right of the political spectrum (extreme conserv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Infl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Fascism (Mussoli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ocial Darwinism (Herbert Spenc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Nietz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German Romantic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Volkish Thou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311880" y="4089240"/>
            <a:ext cx="28321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2:54:15Z</dcterms:created>
  <dc:creator>Technology Department</dc:creator>
  <dc:description/>
  <dc:language>en-US</dc:language>
  <cp:lastModifiedBy>WPS</cp:lastModifiedBy>
  <dcterms:modified xsi:type="dcterms:W3CDTF">2014-04-01T15:39:06Z</dcterms:modified>
  <cp:revision>6</cp:revision>
  <dc:subject/>
  <dc:title>PowerPoint Presentation</dc:title>
</cp:coreProperties>
</file>