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B56-B912-4DE8-BED7-1E0894D8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67C-0614-41D5-8F5B-C50B4228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940-BCBB-494C-9F19-8A4F331B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3C6-C8BA-40FC-B314-04931210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ED5-BA2D-4985-B743-D6E4213F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9CA-2AC4-491E-948C-30951A95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F4E-5A9F-460A-A5DD-8B21D4CD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2B4-2E29-45B1-9444-B0FB191E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785-D75B-4CA5-B2DC-2B4011C5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40A-09E3-4184-9D7A-A6D1764D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8AE-ED95-44CB-B8B3-8CCB1C0F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011-E458-42CE-8F11-62CB12A1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FDAA-BE26-4A71-B7DC-E4CDD6509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Lesson 19: Naz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4920" y="1295280"/>
            <a:ext cx="449568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1.     To engage in a discussion of Nazi philosophy with particular focus to how it connects to the social change occurring in the Weimar Republic and how it previews the events of the Holocau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Brief intro to Naz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952880" y="1295280"/>
            <a:ext cx="365760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Fri 4/11 (New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Unit Test &amp; HW: Mon 4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Naz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Ideology developed by Adolf Hitler and practiced by the Nazi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Articulated in Hitler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Mein Kampf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19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Nazi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erived from the first two syllables of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Nationalsozialistische Deutsche Arbeiterpartei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National Socialist German Worker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 Party, NSD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On the far right of the political spectrum (extreme conserv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Infl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ascism (Mussoli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ocial Darwinism (Herbert Spen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Nietz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German Romantic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Volkish Thou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11880" y="4089240"/>
            <a:ext cx="28321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2:54:15Z</dcterms:created>
  <dc:creator>Technology Department</dc:creator>
  <dc:description/>
  <dc:language>en-US</dc:language>
  <cp:lastModifiedBy>WPS</cp:lastModifiedBy>
  <dcterms:modified xsi:type="dcterms:W3CDTF">2014-04-01T15:39:06Z</dcterms:modified>
  <cp:revision>6</cp:revision>
  <dc:subject/>
  <dc:title>PowerPoint Presentation</dc:title>
</cp:coreProperties>
</file>