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03E72-08D9-4782-9318-F68D4DFCC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21B7A-65C5-4793-8269-51DBB90AB9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3BF4-4F5B-499B-B0C5-63CC276CB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A1E4-AFA9-4DCE-BB0D-6CBE6277B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82B7-8C3E-4E40-8406-5F482E7DA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3D73-8146-4E8D-9CB7-6104BBEC6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63F9-1E8C-4F33-938A-840A3D1DA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4375-1FE3-47D9-8728-D2396DB29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F5A9-2C69-4D7D-95B3-45E19465B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E40C-0D6B-4C07-B581-92BB4A62B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6281-E090-481D-874E-8A826FB16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F33B-AFC2-4BAA-85CC-F043839B8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86B7-2701-44DE-8F6D-AFFB00DE2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BB25-A9F4-4292-B737-58F68B26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1BED0-9AAB-4DB7-AA66-816A5E1B52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itle 1"/>
          <p:cNvSpPr/>
          <p:nvPr/>
        </p:nvSpPr>
        <p:spPr>
          <a:xfrm>
            <a:off x="0" y="2286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idot"/>
              </a:rPr>
              <a:t>L17: Totalitarianism in Ita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304920" y="1447920"/>
            <a:ext cx="4343400" cy="495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</a:rPr>
              <a:t>Agen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</a:rPr>
              <a:t>Objective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To understand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How and why Mussolini rose to pow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The principles of Fascis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What life was like in totalitarianism Italy and why it was totalitaria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Key comparisons between fascism and communis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</a:rPr>
              <a:t>Schedule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Whole Class Discus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4800600" y="1447920"/>
            <a:ext cx="3809880" cy="495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Didot"/>
              </a:rPr>
              <a:t>Homewo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Continue to work on pre-writing (1&amp;2): Rolling Deadline…Rememb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Didot"/>
                <a:ea typeface="Didot"/>
              </a:rPr>
              <a:t>Last Day to Turn in Working Paper: Fri 4/11 (New D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Unit Test &amp; HW: Mon 4/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9T21:48:54Z</dcterms:created>
  <dc:creator>Technology Department</dc:creator>
  <dc:description/>
  <dc:language>en-US</dc:language>
  <cp:lastModifiedBy>WPS</cp:lastModifiedBy>
  <dcterms:modified xsi:type="dcterms:W3CDTF">2014-03-26T17:10:40Z</dcterms:modified>
  <cp:revision>31</cp:revision>
  <dc:subject/>
  <dc:title>PowerPoint Presentation</dc:title>
</cp:coreProperties>
</file>