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2464-08D0-4AE6-95F3-BC174811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46D3-0FF3-4430-9C64-02BC20BA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1A2-DD1F-489F-B6EA-FC0D2E71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0A8-0792-446B-95A4-397188BC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EA2-9709-411B-8E9F-8A8FB3FC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C0D-F2E8-4A90-812B-47687AA7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138-0A43-467F-8356-7E7B9A80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3FD-7792-48A4-8B87-ABBFA85D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60B-2469-4A6F-8411-01DCE76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63F-2696-4BA4-9BC0-C1AC5B6B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5AF-5B8D-44D5-8BA0-2DB2EE2D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E94-E6B0-48F4-9EB0-EFBD50D5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FC8-697B-43AF-B304-40C84B2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1FF-A31E-4190-A4D6-348705FE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9AD1-8DAB-4FB0-8F5F-BB52A4BAA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17: Totalitarianism in 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447920"/>
            <a:ext cx="43434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How and why Mussolini rose to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principles of Fasc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life was like in totalitarianism Italy and why it was totalitar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Key comparisons between fascism and commu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1447920"/>
            <a:ext cx="380988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1:48:54Z</dcterms:created>
  <dc:creator>Technology Department</dc:creator>
  <dc:description/>
  <dc:language>en-US</dc:language>
  <cp:lastModifiedBy>WPS</cp:lastModifiedBy>
  <dcterms:modified xsi:type="dcterms:W3CDTF">2014-03-26T17:10:40Z</dcterms:modified>
  <cp:revision>31</cp:revision>
  <dc:subject/>
  <dc:title>PowerPoint Presentation</dc:title>
</cp:coreProperties>
</file>