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FD96-4C82-4AC2-82BF-53370CBC9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54B3-6E34-47E1-853D-DDD15DA15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899-8F0C-47E1-BB37-F10F92D5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0D3-8E4E-4BE7-A156-4E55C153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F9D-9499-4779-A554-CDE22C08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A98-5D6A-491C-ADEA-F2CACA59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7BE-8015-48E9-958D-902CA723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CDB-D8D8-4C34-977B-23A051EA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06C-A085-46D0-B938-E0F8164B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329-1189-4710-BEAB-CA8D5778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78A-5EE3-4B94-B843-DDFBBF0A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73C-C2D8-425F-9FE9-C2910B85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F66-7BEA-44DB-9059-B0A0601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710-AFD9-43DF-9784-953948DE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1DE2-F3FF-473B-B80A-DC266C175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17: Totalitarianism in 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447920"/>
            <a:ext cx="43434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How and why Mussolini rose to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principles of Fasc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life was like in totalitarianism Italy and why it was totalitari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Key comparisons between fascism and commu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1447920"/>
            <a:ext cx="38098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Fri 4/11 (New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Unit Test &amp; HW: Mon 4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6T17:10:40Z</dcterms:modified>
  <cp:revision>31</cp:revision>
  <dc:subject/>
  <dc:title>PowerPoint Presentation</dc:title>
</cp:coreProperties>
</file>