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8E2F-4270-4739-9D89-71B33BA70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D738-35D6-4A0A-9931-EDF66087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EAC-A0C2-4EA6-8783-8896DE78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6E2-E615-401D-9D04-DB6FFC9C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5D2-D3E7-4F40-A802-702E58A0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479-2514-4CDD-BAA1-56DE0F2C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0D6-9162-447D-8711-A6658FF5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E3C-05D7-4A5A-BD5D-4DAE573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594-2764-4538-945A-67BABDE9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BFB-1D5B-496B-B9ED-2CD765E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D85-DE43-4530-A7BB-B1997AA9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6B1-EF14-43A5-A4E1-2CB48FBD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8EC-08D4-4A3E-8B77-DD6367A0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0B1-F694-4081-BE44-4116405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BCDF-4564-4550-89BE-DA2C341E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17: Totalitarianism in 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447920"/>
            <a:ext cx="43434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How and why Mussolini rose to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principles of Fasc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life was like in totalitarianism Italy and why it was totalitari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Key comparisons between fascism and commu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447920"/>
            <a:ext cx="38098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6T17:10:40Z</dcterms:modified>
  <cp:revision>31</cp:revision>
  <dc:subject/>
  <dc:title>PowerPoint Presentation</dc:title>
</cp:coreProperties>
</file>