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C9D-C562-4835-A513-34783CFF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79B9-61C6-442E-BE3F-E352928B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F69-683C-41CB-84C4-7613EA64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5FB-A5D3-4730-BA14-3D6BF746A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AB31-44D2-4988-8DB5-B3552D053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F43-0628-4101-BAB2-B98F5B9A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405-1F65-474D-BA6D-B76D57D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151-DCC4-49D6-AF37-C8594239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7DC-738B-459B-97A0-57A33CD9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638-588F-4D6B-8513-D985731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17E-B1AC-4774-8864-25C16FFA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BFC-0350-4BAA-973C-1ED80C4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B62-04A3-426B-AAA5-B7B9714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65C-8DC1-43EF-A6C4-46C775E2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E39-6CFB-423A-9355-3B6C4E8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75E-E567-4DDD-A445-93C83C8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528-A8A9-4648-8B2D-E0DA167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FA9D-1C10-4AC3-974D-5EC73C1C2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rningsun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5: The Cultural Revolution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at the Cultural Revolution was and its effects on the Chines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e Cultural Revolution is an example of a totalitari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066680"/>
            <a:ext cx="39625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or class today, you learned about and reflected on the meaning of the Cultural Revolution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You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llowing the failur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Great Leap Forward, M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gan to believe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ommunist Party in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as being threate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pro-capitalist bourge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response, he launched the Cultural Revolution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Social movement designed to further cement communism in the country by removing capitalist elements from Chinese society.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doing so it involved major changes to Chinese politics, economics, and social life.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59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Today we will build on your understanding thus far and reflect on the significance of the Cultural R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e will visit the websit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morningsu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Go to the 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living revolution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 section.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Peruse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isten to the Radio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TV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a Movie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 Little Red Book: Ask Chairman Mao for the Answers to your Problems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ake an English Less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you peruse complet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Choose one source (song, film clip, the English lesso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Briefly 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is the source an example of the 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cultural change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 enforced by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Why does the source suggest about what daily life was like during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does the source provide evidence for the Cultural Revolution as a form of totalitarian rule AND panoptic control?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video and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4T14:58:49Z</dcterms:modified>
  <cp:revision>27</cp:revision>
  <dc:subject/>
  <dc:title>PowerPoint Presentation</dc:title>
</cp:coreProperties>
</file>