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80A5-F83B-4031-BBD5-B246C1405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1ED4-BC2B-457D-A2E4-435AC5BCF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95FD-6AC3-45B1-A85C-5386EFA5D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373D-9BEE-488A-A692-800DC5D7C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46FB-E0E2-48F3-8A09-EBABD8F02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4B15-0187-4830-ACB2-225B07A5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EE5-94C3-4968-B888-9A2D912B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B7FC-3F6C-4290-BA46-D0498559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C4D-38C4-4FE1-A9B3-AAFBB957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73A6-1720-4647-93B5-90597E5F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C15-23A1-4787-A1AF-D10CF3FE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A5A-5CE3-4479-B74D-C73DE2C1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537-9B46-49A0-88B5-7BC5A1FE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3CDA-D9BB-40EF-9C34-7CAE699D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A50-D38E-4A4D-8A25-F9E7E234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ED9-EED1-4639-A4C2-6640BB38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33D-AF26-4CA6-8347-AE228F80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72BF-64E9-447F-8767-07726F970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rningsun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15: The Cultural Revolution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1066680"/>
            <a:ext cx="434340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What the Cultural Revolution was and its effects on the Chines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How the Cultural Revolution is an example of a totalitarian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Group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00600" y="1066680"/>
            <a:ext cx="396252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Readings for Italy Discussion on Thurs 3/27 (Optional 50 point summative grade!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Wed 4/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he Cultural Revolution (1966-197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6091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For class today, you learned about and reflected on the meaning of the Cultural Revolution in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You learn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Following the failure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Great Leap Forward, Ma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began to believe th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ommunist Party in Ch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as being threaten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pro-capitalist bourgeo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elemen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In response, he launched the Cultural Revolution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Social movement designed to further cement communism in the country by removing capitalist elements from Chinese society.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In doing so it involved major changes to Chinese politics, economics, and social life.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7591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he Cultural Revolution (1966-197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Today we will build on your understanding thus far and reflect on the significance of the Cultural Revo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We will visit the website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Didot"/>
                <a:hlinkClick r:id="rId1"/>
              </a:rPr>
              <a:t>www.morningsun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Go to the </a:t>
            </a:r>
            <a:r>
              <a:rPr b="0" lang="ja-JP" sz="26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living revolution</a:t>
            </a:r>
            <a:r>
              <a:rPr b="0" lang="ja-JP" sz="26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 section.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Peruse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Listen to the Radio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Watch TV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Watch a Movie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he Little Red Book: Ask Chairman Mao for the Answers to your Problems,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 and 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Take an English Lesson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As </a:t>
            </a: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you peruse complete the follow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Choose one source (song, film clip, the English lesson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</a:rPr>
              <a:t>Briefly 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How is the source an example of the </a:t>
            </a:r>
            <a:r>
              <a:rPr b="0" lang="ja-JP" sz="18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cultural change</a:t>
            </a:r>
            <a:r>
              <a:rPr b="0" lang="ja-JP" sz="18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 enforced by the Cultural Rev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Why does the source suggest about what daily life was like during the Cultural Rev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dot"/>
              </a:rPr>
              <a:t>How does the source provide evidence for the Cultural Revolution as a form of totalitarian rule AND panoptic control?</a:t>
            </a: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Insights/observations from the video and your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Insights/observations from the web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1:48:54Z</dcterms:created>
  <dc:creator>Technology Department</dc:creator>
  <dc:description/>
  <dc:language>en-US</dc:language>
  <cp:lastModifiedBy>WPS</cp:lastModifiedBy>
  <dcterms:modified xsi:type="dcterms:W3CDTF">2014-03-24T14:58:49Z</dcterms:modified>
  <cp:revision>27</cp:revision>
  <dc:subject/>
  <dc:title>PowerPoint Presentation</dc:title>
</cp:coreProperties>
</file>