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28C5-6826-4B08-86E7-A78A4D79A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49EF-824C-439E-90E2-3FC1EFAAB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62B4-A373-4011-8B78-7D42E46A1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F529-AFE7-450E-B3E9-47B8AF4C4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8D4E-17DB-41BD-A020-600687601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BC5-2ABB-4532-AE9E-C2EF4BCA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D4E-CF35-47ED-A7D3-48653ABD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168-0380-4E3E-8E12-90281055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BF3-6DBD-4666-AC75-4D784F49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36A-C0EC-49C6-BFC2-0A13AC0F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7AC-1102-4480-BB01-C8951A54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076-DBAD-466A-A73E-A43B1024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E49-23F4-42F8-A1D0-6F8BCEEF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FC9-A6A4-43BB-B37F-6AFA05A3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730-BC91-4651-9FD0-5113B5A6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BB8-78A9-4A68-AAB8-E7E36AEF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251-D91F-484A-B0F7-9CA3414D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88FA-FC25-441B-90B4-7E14E7D12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rningsun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15: The Cultural Revolution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066680"/>
            <a:ext cx="43434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What the Cultural Revolution was and its effects on the Chines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How the Cultural Revolution is an example of a totalitari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1066680"/>
            <a:ext cx="396252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Readings for Italy Discussion on Thurs 3/27 (Optional 50 point summative grade!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Wed 4/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Cultural Revolution (1966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6091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or class today, you learned about and reflected on the meaning of the Cultural Revolution in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You learn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Following the failur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Great Leap Forward, Ma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began to believe th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ommunist Party in Ch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as being threaten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pro-capitalist bourgeo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ele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n response, he launched the Cultural Revolution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Social movement designed to further cement communism in the country by removing capitalist elements from Chinese society.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n doing so it involved major changes to Chinese politics, economics, and social life.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7591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Cultural Revolution (1966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Today we will build on your understanding thus far and reflect on the significance of the Cultural R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We will visit the website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Didot"/>
                <a:hlinkClick r:id="rId1"/>
              </a:rPr>
              <a:t>www.morningsun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Go to the </a:t>
            </a:r>
            <a:r>
              <a:rPr b="0" lang="ja-JP" sz="26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living revolution</a:t>
            </a:r>
            <a:r>
              <a:rPr b="0" lang="ja-JP" sz="26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 section.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Peruse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Listen to the Radio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atch TV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atch a Movie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he Little Red Book: Ask Chairman Mao for the Answers to your Problems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and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ake an English Less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As 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you peruse complete the follow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Choose one source (song, film clip, the English lesson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Briefly 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How is the source an example of the </a:t>
            </a:r>
            <a:r>
              <a:rPr b="0" lang="ja-JP" sz="18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cultural change</a:t>
            </a:r>
            <a:r>
              <a:rPr b="0" lang="ja-JP" sz="18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 enforced by the Cultural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Why does the source suggest about what daily life was like during the Cultural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How does the source provide evidence for the Cultural Revolution as a form of totalitarian rule AND panoptic control?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Insights/observations from the video and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Insights/observations from the web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4T14:58:49Z</dcterms:modified>
  <cp:revision>27</cp:revision>
  <dc:subject/>
  <dc:title>PowerPoint Presentation</dc:title>
</cp:coreProperties>
</file>