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A8BD-B6A0-4107-92D3-015671321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E042-5A50-42DE-BCE7-B49BB843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D8FF-0626-4A42-A011-9E9827972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1613-9EB2-48AE-9DA9-3EE72B340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F6E-13C4-4E73-AD4E-2D3BDB56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126-2EF9-47A2-937A-B1331C77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B91-C5A1-44E8-9139-A2CEA539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D22-2D0B-4B29-B843-067F65D6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657-14D2-4242-8E51-2E5D20B1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8B5-4F73-4314-AE03-C2C9A427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9DC-2433-4B13-A4B8-08E99A54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C8F-1C91-4DE9-BB03-72ECD3F6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67A-075E-47C4-9079-C5948C83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6AB-87E2-43A9-A870-E3AC4856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673-A306-4C5E-B550-0A338C0F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DE0-B6C3-4C2F-BED5-F6881EE4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9986-A02A-4598-AC1B-4D4A2128B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14: The Great Leap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28600" y="129528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at the Great Leap Forward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he effects of the Great Leap Forw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How the Great Leap Forward relates to Mao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ether the Great Leap Forward is an example of totalitarianism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Video C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572000" y="1295280"/>
            <a:ext cx="41911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Go to course website and view the videos on the Cultural Revolution.  After viewing, answer 2 of the critical thinking questions.  Due: L15 Tues 3/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Readings for Italy Discussion on Thurs 3/27 (Optional 50 point summative grade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8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Wed 4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808440" y="4383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Mao</a:t>
            </a: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s Programs in the P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Over the next two classes we will learn about two programs Mao put into place in China after 1949 to help reinforce communism in the People</a:t>
            </a:r>
            <a:r>
              <a:rPr b="0" lang="ja-JP" sz="28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s Republic of China.  Each of these programs exemplify the ways in which Mao constructed a totalitarian regime in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he Great Leap Forward (1958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he Cultural Revolution (1966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he Great Leap Forwa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(1958-196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Economic and social campaign which aimed to use China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 vast population to rapidly transform the country from an agricultural economy to a modern communist s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Required that all wealthier peasants give their land over to the state to create massive coll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hese collectives were t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orked by all former peas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o grow crops and/or to produ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te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Let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 learn more in detail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105520" y="3960720"/>
            <a:ext cx="40384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he Great Leap Forward (1958-196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ole Group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as the goal of the GLF (intended vs. concealed aim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ere the effects of the GL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s the GLF consistent with Maoist ide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is the GLF an example of the types of programs we might expect to see from a totalitarian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as the purpose of collectivization?  Do you think it could have </a:t>
            </a:r>
            <a:r>
              <a:rPr b="0" lang="ja-JP" sz="20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beneficial</a:t>
            </a:r>
            <a:r>
              <a:rPr b="0" lang="ja-JP" sz="20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effects for totalitarian contr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was the nature of the family changed by the GLF? What purposes might have been served by destroying traditional family stru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did the GLF mobilize people through fear of an enemy?  Who was that ene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Note where you see panoptic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1T13:04:07Z</dcterms:modified>
  <cp:revision>20</cp:revision>
  <dc:subject/>
  <dc:title>PowerPoint Presentation</dc:title>
</cp:coreProperties>
</file>