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AC1A-4A00-492A-BC14-8A1406580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6554-B23C-416E-8EAE-5FD6E2BAF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D1E3-B24F-4761-8ECE-2DDC58C58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8E47-DE37-445B-B223-B112BFA44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AA00-719C-484B-971E-1AFCDC537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841B-2C3A-4702-84DA-437220FB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29EA-3782-485D-830F-33A09424F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B005-045A-4135-9955-6323DC2F7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C791-CD42-4624-9885-F78DB29B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C8AC-C968-459D-8475-46997F3D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AD4E-0D5F-430E-8BA8-340A1256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DB22-C241-4002-BD09-4ADE565B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7C11-84BF-452E-B17B-19C34115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442D-D47E-44F3-A558-51B2B9EE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987E-1C99-4A7D-B704-F62B1D8D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834C-F873-425D-81F9-D5B4990B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A0DB-9795-478F-8D47-5149C3EA9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14: The Great Leap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228600" y="1295280"/>
            <a:ext cx="403848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What the Great Leap Forward w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The effects of the Great Leap Forw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How the Great Leap Forward relates to Mao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Whether the Great Leap Forward is an example of totalitarianism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Video Cl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Whole Class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572000" y="1295280"/>
            <a:ext cx="419112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Go to course website and view the videos on the Cultural Revolution.  After viewing, answer 2 of the critical thinking questions.  Due: L15 Tues 3/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Readings for Italy Discussion on Thurs 3/27 (Optional 50 point summative grade!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Continue to work on pre-writing (1&amp;2): Rolling Deadline…Rememb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88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Last Day to Turn in Working Paper: Wed 4/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3808440" y="43830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Mao</a:t>
            </a:r>
            <a:r>
              <a:rPr b="0" lang="ja-JP" sz="44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s Programs in the P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Over the next two classes we will learn about two programs Mao put into place in China after 1949 to help reinforce communism in the People</a:t>
            </a:r>
            <a:r>
              <a:rPr b="0" lang="ja-JP" sz="28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s Republic of China.  Each of these programs exemplify the ways in which Mao constructed a totalitarian regime in Ch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The Great Leap Forward (1958-19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The Cultural Revolution (1966-197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The Great Leap Forwa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(1958-196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Economic and social campaign which aimed to use China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s vast population to rapidly transform the country from an agricultural economy to a modern communist st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Required that all wealthier peasants give their land over to the state to create massive collecti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These collectives were t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worked by all former peasa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to grow crops and/or to produ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ste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Let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s learn more in detail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5105520" y="3960720"/>
            <a:ext cx="403848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The Great Leap Forward (1958-1961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Whole Group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What was the goal of the GLF (intended vs. concealed aims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What were the effects of the GL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Is the GLF consistent with Maoist ide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How is the GLF an example of the types of programs we might expect to see from a totalitarian reg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What was the purpose of collectivization?  Do you think it could have </a:t>
            </a:r>
            <a:r>
              <a:rPr b="0" lang="ja-JP" sz="20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beneficial</a:t>
            </a:r>
            <a:r>
              <a:rPr b="0" lang="ja-JP" sz="20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effects for totalitarian contro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How was the nature of the family changed by the GLF? What purposes might have been served by destroying traditional family structu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How did the GLF mobilize people through fear of an enemy?  Who was that enem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Note where you see panoptic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21:48:54Z</dcterms:created>
  <dc:creator>Technology Department</dc:creator>
  <dc:description/>
  <dc:language>en-US</dc:language>
  <cp:lastModifiedBy>WPS</cp:lastModifiedBy>
  <dcterms:modified xsi:type="dcterms:W3CDTF">2014-03-21T13:04:07Z</dcterms:modified>
  <cp:revision>20</cp:revision>
  <dc:subject/>
  <dc:title>PowerPoint Presentation</dc:title>
</cp:coreProperties>
</file>