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C8F2-AF38-441D-91C3-82BE6221B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9291-4A24-4703-8463-46D09CE4F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1A77-E7F8-46C2-832E-5C9FA9CC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DC03-EA13-4FA3-92A8-7B7A4A4D0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ED3-0468-4E1D-9C38-54EC4A3A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D32-CC94-448D-B8DB-1ED1E6C4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CBB-95DD-4196-BDB4-21E8327D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EBE-600E-47F4-A365-6AC59B86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2F9-A073-4AD0-BD22-1FE3FDE0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C09-BA8A-43E3-9E6D-0DBF581F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A27-BE5E-4DBF-B5A8-BB7F093E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1CB-D7A2-4CE8-847F-DB62C50D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50C-2156-4BC1-AE59-2D2DD83D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38F-C3D2-4566-98B9-3DFA3FF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AA0-2173-4852-8A85-A1648916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C7F-5B4E-44E2-A014-B008C8DA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8F33-1070-486A-933B-AC33C61E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4: The Great Leap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" y="129528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at the Great Leap Forward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effects of the Great Leap For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the Great Leap Forward relates to Mao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ether the Great Leap Forward is an example of totalitarianism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Video C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572000" y="1295280"/>
            <a:ext cx="41911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Go to course website and view the videos on the Cultural Revolution.  After viewing, answer 2 of the critical thinking questions.  Due: L15 Tues 3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8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08440" y="4383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Mao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s Programs in the 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ver the next two classes we will learn about two programs Mao put into place in China after 1949 to help reinforce communism in the People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s Republic of China.  Each of these programs exemplify the ways in which Mao constructed a totalitarian regime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Cultural Revolution (1966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(1958-196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Economic and social campaign which aimed to use China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vast population to rapidly transform the country from an agricultural economy to a modern communist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Required that all wealthier peasants give their land over to the state to create massive coll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se collectives wer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orked by all former peas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o grow crops and/or to produ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te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et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learn more in detai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105520" y="3960720"/>
            <a:ext cx="40384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Group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goal of the GLF (intended vs. concealed aim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ere the effects of the G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s the GLF consistent with Maoist ide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is the GLF an example of the types of programs we might expect to see from a totalitarian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purpose of collectivization?  Do you think it could have 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neficial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effects for totalitarian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was the nature of the family changed by the GLF? What purposes might have been served by destroying traditional family stru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did the GLF mobilize people through fear of an enemy?  Who was that ene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Note where you see panoptic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1T13:04:07Z</dcterms:modified>
  <cp:revision>20</cp:revision>
  <dc:subject/>
  <dc:title>PowerPoint Presentation</dc:title>
</cp:coreProperties>
</file>