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274A-6EAB-43D0-A1D9-75123A108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DDB7-620D-47C0-AFAA-48350032D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653B-3AC8-4B26-9736-8C4228912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715-63C4-49E8-8870-96E70DB6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4BC-D62A-4699-B2C3-0E37E80B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A9A-4B91-4F8D-AA02-8F01C27C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030-22BF-4F61-A404-A75FD4F4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6C7-A16A-47AA-B37D-2C976CD3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63E-3920-4040-9CA7-1433E419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395-C1C7-4F48-A0D9-CCFAB994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24E-C461-49EC-8DCF-11E64ED3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6E2-5CB3-4421-A695-446E2CCE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A76-2D09-4C68-97C5-49D154C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6DA-8F5B-4CD0-B1BC-9472D19D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C13-2C11-4D21-BEF5-D7F12198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DEA1-57C3-43F0-B9DC-2942975BC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oviethistory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idot"/>
              </a:rPr>
              <a:t>L10: Social and Cultural Life Under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600200"/>
            <a:ext cx="5334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Stalin and the Soviet Government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s role in social and cultural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How this involvement exemplifies totalitarianism and panoptic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867280" y="1523880"/>
            <a:ext cx="266724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Work on prewriting check-in.  Rolling Deadline—though in the next week would be ide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Social and Cultural Life Under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Today we will be studying what social and cultural life were like under Sta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In particular we will want to look at how Stalin applied totalitarian rule and panoptic control to social and cultur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661000" y="1219320"/>
            <a:ext cx="3483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Task for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Visit the websit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Didot"/>
                <a:hlinkClick r:id="rId1"/>
              </a:rPr>
              <a:t>www.soviethistory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hoose 2+ of the areas to explore below (read the essay, look at the images, watch the vide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For EACH answer the following questions: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In one sentence describe life in the area you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In a list, identify the characteristics of totalitarianism present in tha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3000" y="1981080"/>
          <a:ext cx="6858000" cy="3127320"/>
        </p:xfrm>
        <a:graphic>
          <a:graphicData uri="http://schemas.openxmlformats.org/drawingml/2006/table">
            <a:tbl>
              <a:tblPr/>
              <a:tblGrid>
                <a:gridCol w="3505320"/>
                <a:gridCol w="3352680"/>
              </a:tblGrid>
              <a:tr h="1334520"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Ar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29: Proletarian Wri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opular Film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Soviet Real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9: Cult of Person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Scienc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Pilots and Explor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Rebuilding of Mosco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9: Great Fergana C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0"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Family Lif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avlik Morozov  (Spying on Fami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Childhood Under Stal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Abolition of Legal Abor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Personal Lif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29: Churches Cl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hysical Cul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The Great T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5:17:30Z</dcterms:created>
  <dc:creator>Technology Department</dc:creator>
  <dc:description/>
  <dc:language>en-US</dc:language>
  <cp:lastModifiedBy>WPS</cp:lastModifiedBy>
  <dcterms:modified xsi:type="dcterms:W3CDTF">2014-03-12T17:17:25Z</dcterms:modified>
  <cp:revision>14</cp:revision>
  <dc:subject/>
  <dc:title>PowerPoint Presentation</dc:title>
</cp:coreProperties>
</file>