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0330-5A2B-4201-A098-4B7298CCE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1B27-7303-470A-BF7D-CA925FCF9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E6CF-457F-4E52-B63B-89D179A01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4527-95D7-415E-A223-7AB585A1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E3DF-6F7A-46B4-BF88-4A975715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D991-1595-4381-BDF6-B383BA295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BA5F-AA68-414A-BC50-4F396358A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D280-AC55-4011-91A8-5EAC63A3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A3C3-5BDD-4D77-9A46-07D38F5E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1B6D-B52B-4E1D-9DF4-7540A8AC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EC09-12CA-4BF4-91AA-EC947D5A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4186-3898-4284-9C23-8052C9EB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0042-E045-4172-A498-CBE18326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B052-9F24-4BDF-B12C-5C52A82D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1AC7-008B-4152-90B6-31AE8064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60AD-0AAD-48D8-BF0E-BF01CD639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oviethistory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Didot"/>
              </a:rPr>
              <a:t>L10: Social and Cultural Life Under Stal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80880" y="1600200"/>
            <a:ext cx="53341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Stalin and the Soviet Government</a:t>
            </a:r>
            <a:r>
              <a:rPr b="1" lang="ja-JP" sz="24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s role in social and cultural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How this involvement exemplifies totalitarianism and panoptic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Group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867280" y="1523880"/>
            <a:ext cx="266724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Work on prewriting check-in.  Rolling Deadline—though in the next week would be idea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</a:rPr>
              <a:t>Social and Cultural Life Under Stal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Today we will be studying what social and cultural life were like under Stal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In particular we will want to look at how Stalin applied totalitarian rule and panoptic control to social and cultural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5661000" y="1219320"/>
            <a:ext cx="34830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</a:rPr>
              <a:t>Task for To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Visit the websit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Didot"/>
                <a:hlinkClick r:id="rId1"/>
              </a:rPr>
              <a:t>www.soviethistory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Choose 2+ of the areas to explore below (read the essay, look at the images, watch the video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For EACH answer the following questions: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In one sentence describe life in the area you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In a list, identify the characteristics of totalitarianism present in tha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43000" y="1981080"/>
          <a:ext cx="6858000" cy="3127320"/>
        </p:xfrm>
        <a:graphic>
          <a:graphicData uri="http://schemas.openxmlformats.org/drawingml/2006/table">
            <a:tbl>
              <a:tblPr/>
              <a:tblGrid>
                <a:gridCol w="3505320"/>
                <a:gridCol w="3352680"/>
              </a:tblGrid>
              <a:tr h="1334520">
                <a:tc>
                  <a:txBody>
                    <a:bodyPr lIns="90000" rIns="90000" anchor="t">
                      <a:noAutofit/>
                    </a:bodyPr>
                    <a:p>
                      <a:pPr lvl="1" marL="4572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Didot"/>
                          <a:ea typeface="ＭＳ Ｐゴシック"/>
                        </a:rPr>
                        <a:t>Art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29: Proletarian Writ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4: Popular Film Indus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4: Soviet Reali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9: Cult of Persona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Didot"/>
                          <a:ea typeface="ＭＳ Ｐゴシック"/>
                        </a:rPr>
                        <a:t>Scienc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6: Pilots and Explorer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6: Rebuilding of Moscow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9: Great Fergana Ca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800">
                <a:tc>
                  <a:txBody>
                    <a:bodyPr lIns="90000" rIns="90000" anchor="t">
                      <a:noAutofit/>
                    </a:bodyPr>
                    <a:p>
                      <a:pPr lvl="1" marL="4572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Didot"/>
                          <a:ea typeface="ＭＳ Ｐゴシック"/>
                        </a:rPr>
                        <a:t>Family Lif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2960" indent="-34128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4: Pavlik Morozov  (Spying on Famil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2960" indent="-34128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6: Childhood Under Stal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2960" indent="-34128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6: Abolition of Legal Abor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Didot"/>
                          <a:ea typeface="ＭＳ Ｐゴシック"/>
                        </a:rPr>
                        <a:t>Personal Lif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29: Churches Cl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4: Physical Cul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 indent="-3427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Didot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Didot"/>
                          <a:ea typeface="ＭＳ Ｐゴシック"/>
                        </a:rPr>
                        <a:t>1936: The Great Terr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5:17:30Z</dcterms:created>
  <dc:creator>Technology Department</dc:creator>
  <dc:description/>
  <dc:language>en-US</dc:language>
  <cp:lastModifiedBy>WPS</cp:lastModifiedBy>
  <dcterms:modified xsi:type="dcterms:W3CDTF">2014-03-12T17:17:25Z</dcterms:modified>
  <cp:revision>14</cp:revision>
  <dc:subject/>
  <dc:title>PowerPoint Presentation</dc:title>
</cp:coreProperties>
</file>