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1B54-4A94-44AB-A002-C607D11C7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2366-EB42-4FFB-BB06-097027B78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C816-EFD4-4548-A5F1-A1264B7BD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0608-4E42-4228-9524-08E82A6C9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5650-2A65-4228-94DD-E7C60C57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0ECA-0F0F-4BB0-B20A-070E2EF70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1602-CF84-4322-B0F8-BEBC82C4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2167-3254-446C-958B-C727D5EF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8DBD-F6BB-41D1-90E0-E4205151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0D96-5FB5-437A-A14E-773264DB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1C7A-AA4A-4FE6-A8F2-9CF9590B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467F-0983-4326-A50E-A2E1CBB5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7B14-AF16-4627-8CF4-C74FDF51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06B7-0D73-43B1-A4D8-6FF2B860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4A9A-A09B-4BE7-8BCB-61DBD22C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722A-CD48-4B82-97A7-A7A1221CA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oviethistory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Didot"/>
              </a:rPr>
              <a:t>L10: Social and Cultural Life Under Stal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80880" y="1600200"/>
            <a:ext cx="53341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Stalin and the Soviet Government</a:t>
            </a:r>
            <a:r>
              <a:rPr b="1" lang="ja-JP" sz="24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s role in social and cultural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How this involvement exemplifies totalitarianism and panoptic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Group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867280" y="1523880"/>
            <a:ext cx="266724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Work on prewriting check-in.  Rolling Deadline—though in the next week would be idea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</a:rPr>
              <a:t>Social and Cultural Life Under Stal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Today we will be studying what social and cultural life were like under Stal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In particular we will want to look at how Stalin applied totalitarian rule and panoptic control to social and cultural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5661000" y="1219320"/>
            <a:ext cx="34830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</a:rPr>
              <a:t>Task for To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Visit the websit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Didot"/>
                <a:hlinkClick r:id="rId1"/>
              </a:rPr>
              <a:t>www.soviethistory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Choose 2+ of the areas to explore below (read the essay, look at the images, watch the video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For EACH answer the following questions: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In one sentence describe life in the area you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In a list, identify the characteristics of totalitarianism present in tha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43000" y="1981080"/>
          <a:ext cx="6858000" cy="3127320"/>
        </p:xfrm>
        <a:graphic>
          <a:graphicData uri="http://schemas.openxmlformats.org/drawingml/2006/table">
            <a:tbl>
              <a:tblPr/>
              <a:tblGrid>
                <a:gridCol w="3505320"/>
                <a:gridCol w="3352680"/>
              </a:tblGrid>
              <a:tr h="1334520">
                <a:tc>
                  <a:txBody>
                    <a:bodyPr lIns="90000" rIns="90000" anchor="t">
                      <a:noAutofit/>
                    </a:bodyPr>
                    <a:p>
                      <a:pPr lvl="1" marL="4572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Didot"/>
                          <a:ea typeface="ＭＳ Ｐゴシック"/>
                        </a:rPr>
                        <a:t>Art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29: Proletarian Writ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4: Popular Film Indus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4: Soviet Reali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9: Cult of Persona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Didot"/>
                          <a:ea typeface="ＭＳ Ｐゴシック"/>
                        </a:rPr>
                        <a:t>Scienc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6: Pilots and Explorer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6: Rebuilding of Moscow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9: Great Fergana Ca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800">
                <a:tc>
                  <a:txBody>
                    <a:bodyPr lIns="90000" rIns="90000" anchor="t">
                      <a:noAutofit/>
                    </a:bodyPr>
                    <a:p>
                      <a:pPr lvl="1" marL="4572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Didot"/>
                          <a:ea typeface="ＭＳ Ｐゴシック"/>
                        </a:rPr>
                        <a:t>Family Lif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2960" indent="-34128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4: Pavlik Morozov  (Spying on Famil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2960" indent="-34128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6: Childhood Under Stal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2960" indent="-34128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6: Abolition of Legal Abor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Didot"/>
                          <a:ea typeface="ＭＳ Ｐゴシック"/>
                        </a:rPr>
                        <a:t>Personal Lif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29: Churches Cl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4: Physical Cul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6: The Great Terr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5:17:30Z</dcterms:created>
  <dc:creator>Technology Department</dc:creator>
  <dc:description/>
  <dc:language>en-US</dc:language>
  <cp:lastModifiedBy>WPS</cp:lastModifiedBy>
  <dcterms:modified xsi:type="dcterms:W3CDTF">2014-03-12T17:17:25Z</dcterms:modified>
  <cp:revision>14</cp:revision>
  <dc:subject/>
  <dc:title>PowerPoint Presentation</dc:title>
</cp:coreProperties>
</file>