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63F03-9988-4E87-9B78-BD91C2D236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C4928-22FA-4A76-AA88-99B43BF65C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F12D5-2F51-4E12-9E42-725A80E97B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A040-38AD-40B9-9104-458C7458E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BA32-2287-46CB-9DA2-C12524A9D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1D6B-698F-45E2-A77A-5FE7F0C14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D3DF-A3D0-400C-8A77-EEDD5E6DB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8E94-006F-4EA4-96E6-DC3C2CAB6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575B-99B2-4BB0-8E1C-197B9BFAD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ECF1-2249-4D29-AF06-91149285D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8FB8-5046-48F4-8593-8D8F34423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DB4D-3362-4418-957B-4E4A31DBF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C311-2426-4216-9986-BB333483B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D2F7-CA9E-4844-A6AA-AED71B4B2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96AB-73F4-4E08-8302-6C59D347E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1D45C-3C53-43DE-B71B-36C5A69AC4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soviethistory.org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Didot"/>
              </a:rPr>
              <a:t>L10: Social and Cultural Life Under Stal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2"/>
          <p:cNvSpPr/>
          <p:nvPr/>
        </p:nvSpPr>
        <p:spPr>
          <a:xfrm>
            <a:off x="380880" y="1600200"/>
            <a:ext cx="5334120" cy="5029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Didot"/>
              </a:rPr>
              <a:t>Age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Didot"/>
              </a:rPr>
              <a:t>Objective</a:t>
            </a:r>
            <a:r>
              <a:rPr b="1" lang="en-US" sz="2400" spc="-1" strike="noStrike">
                <a:solidFill>
                  <a:srgbClr val="000000"/>
                </a:solidFill>
                <a:latin typeface="Didot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idot"/>
              </a:rPr>
              <a:t>To understand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idot"/>
              </a:rPr>
              <a:t>Stalin and the Soviet Government</a:t>
            </a:r>
            <a:r>
              <a:rPr b="1" lang="ja-JP" sz="2400" spc="-1" strike="noStrike">
                <a:solidFill>
                  <a:srgbClr val="000000"/>
                </a:solidFill>
                <a:latin typeface="Didot"/>
              </a:rPr>
              <a:t>’</a:t>
            </a:r>
            <a:r>
              <a:rPr b="1" lang="en-US" sz="2400" spc="-1" strike="noStrike">
                <a:solidFill>
                  <a:srgbClr val="000000"/>
                </a:solidFill>
                <a:latin typeface="Didot"/>
              </a:rPr>
              <a:t>s role in social and cultural lif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idot"/>
              </a:rPr>
              <a:t>How this involvement exemplifies totalitarianism and panopticis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Didot"/>
              </a:rPr>
              <a:t>Schedule</a:t>
            </a:r>
            <a:r>
              <a:rPr b="1" lang="en-US" sz="2400" spc="-1" strike="noStrike">
                <a:solidFill>
                  <a:srgbClr val="000000"/>
                </a:solidFill>
                <a:latin typeface="Didot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idot"/>
              </a:rPr>
              <a:t>Group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idot"/>
              </a:rPr>
              <a:t>Discu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2"/>
          <p:cNvSpPr/>
          <p:nvPr/>
        </p:nvSpPr>
        <p:spPr>
          <a:xfrm>
            <a:off x="5867280" y="1523880"/>
            <a:ext cx="2667240" cy="510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Didot"/>
              </a:rPr>
              <a:t>Ho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Didot"/>
              </a:rPr>
              <a:t>Work on prewriting check-in.  Rolling Deadline—though in the next week would be ideal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314360" indent="-574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Dido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Didot"/>
              </a:rPr>
              <a:t>Social and Cultural Life Under Stal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5257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dot"/>
              </a:rPr>
              <a:t>Today we will be studying what social and cultural life were like under Stal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dot"/>
              </a:rPr>
              <a:t>In particular we will want to look at how Stalin applied totalitarian rule and panoptic control to social and cultural lif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5661000" y="1219320"/>
            <a:ext cx="3483000" cy="52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Didot"/>
              </a:rPr>
              <a:t>Task for Tod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dot"/>
              </a:rPr>
              <a:t>Visit the website: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Didot"/>
                <a:hlinkClick r:id="rId1"/>
              </a:rPr>
              <a:t>www.soviethistory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dot"/>
              </a:rPr>
              <a:t>Choose 2+ of the areas to explore below (read the essay, look at the images, watch the videos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dot"/>
              </a:rPr>
              <a:t>For EACH answer the following questions:</a:t>
            </a:r>
            <a:r>
              <a:rPr b="0" lang="en-US" sz="2800" spc="-1" strike="noStrike">
                <a:solidFill>
                  <a:srgbClr val="000000"/>
                </a:solidFill>
                <a:latin typeface="Dido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96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Dido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Didot"/>
              </a:rPr>
              <a:t>In one sentence describe life in the area you sele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96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Dido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Didot"/>
              </a:rPr>
              <a:t>In a list, identify the characteristics of totalitarianism present in that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1143000" y="1981080"/>
          <a:ext cx="6858000" cy="3127320"/>
        </p:xfrm>
        <a:graphic>
          <a:graphicData uri="http://schemas.openxmlformats.org/drawingml/2006/table">
            <a:tbl>
              <a:tblPr/>
              <a:tblGrid>
                <a:gridCol w="3505320"/>
                <a:gridCol w="3352680"/>
              </a:tblGrid>
              <a:tr h="1334520">
                <a:tc>
                  <a:txBody>
                    <a:bodyPr lIns="90000" rIns="90000" anchor="t">
                      <a:noAutofit/>
                    </a:bodyPr>
                    <a:p>
                      <a:pPr lvl="1" marL="457200" indent="-34272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Didot"/>
                          <a:ea typeface="ＭＳ Ｐゴシック"/>
                        </a:rPr>
                        <a:t>Art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914400" indent="-34272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Didot"/>
                        <a:buChar char="•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Didot"/>
                          <a:ea typeface="ＭＳ Ｐゴシック"/>
                        </a:rPr>
                        <a:t>1929: Proletarian Writ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914400" indent="-34272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Didot"/>
                        <a:buChar char="•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Didot"/>
                          <a:ea typeface="ＭＳ Ｐゴシック"/>
                        </a:rPr>
                        <a:t>1934: Popular Film Indust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914400" indent="-34272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Didot"/>
                        <a:buChar char="•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Didot"/>
                          <a:ea typeface="ＭＳ Ｐゴシック"/>
                        </a:rPr>
                        <a:t>1934: Soviet Realis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914400" indent="-34272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Didot"/>
                        <a:buChar char="•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Didot"/>
                          <a:ea typeface="ＭＳ Ｐゴシック"/>
                        </a:rPr>
                        <a:t>1939: Cult of Personal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lvl="1" marL="457200" indent="-34272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Didot"/>
                          <a:ea typeface="ＭＳ Ｐゴシック"/>
                        </a:rPr>
                        <a:t>Science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914400" indent="-34272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Didot"/>
                        <a:buChar char="•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Didot"/>
                          <a:ea typeface="ＭＳ Ｐゴシック"/>
                        </a:rPr>
                        <a:t>1936: Pilots and Explorer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914400" indent="-34272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Didot"/>
                        <a:buChar char="•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Didot"/>
                          <a:ea typeface="ＭＳ Ｐゴシック"/>
                        </a:rPr>
                        <a:t>1936: Rebuilding of Moscow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914400" indent="-34272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Didot"/>
                        <a:buChar char="•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Didot"/>
                          <a:ea typeface="ＭＳ Ｐゴシック"/>
                        </a:rPr>
                        <a:t>1939: Great Fergana Can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800">
                <a:tc>
                  <a:txBody>
                    <a:bodyPr lIns="90000" rIns="90000" anchor="t">
                      <a:noAutofit/>
                    </a:bodyPr>
                    <a:p>
                      <a:pPr lvl="1" marL="457200" indent="-34272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Didot"/>
                          <a:ea typeface="ＭＳ Ｐゴシック"/>
                        </a:rPr>
                        <a:t>Family Life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912960" indent="-34128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Didot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Didot"/>
                          <a:ea typeface="ＭＳ Ｐゴシック"/>
                        </a:rPr>
                        <a:t>1934: Pavlik Morozov  (Spying on Famil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912960" indent="-34128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Didot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Didot"/>
                          <a:ea typeface="ＭＳ Ｐゴシック"/>
                        </a:rPr>
                        <a:t>1936: Childhood Under Stal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912960" indent="-34128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Didot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Didot"/>
                          <a:ea typeface="ＭＳ Ｐゴシック"/>
                        </a:rPr>
                        <a:t>1936: Abolition of Legal Abor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lvl="1" marL="457200" indent="-34272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Didot"/>
                          <a:ea typeface="ＭＳ Ｐゴシック"/>
                        </a:rPr>
                        <a:t>Personal Life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914400" indent="-34272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Didot"/>
                        <a:buChar char="•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Didot"/>
                          <a:ea typeface="ＭＳ Ｐゴシック"/>
                        </a:rPr>
                        <a:t>1929: Churches Clo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914400" indent="-34272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Didot"/>
                        <a:buChar char="•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Didot"/>
                          <a:ea typeface="ＭＳ Ｐゴシック"/>
                        </a:rPr>
                        <a:t>1934: Physical Cultu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914400" indent="-34272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Didot"/>
                        <a:buChar char="•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Didot"/>
                          <a:ea typeface="ＭＳ Ｐゴシック"/>
                        </a:rPr>
                        <a:t>1936: The Great Terr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6T15:17:30Z</dcterms:created>
  <dc:creator>Technology Department</dc:creator>
  <dc:description/>
  <dc:language>en-US</dc:language>
  <cp:lastModifiedBy>WPS</cp:lastModifiedBy>
  <dcterms:modified xsi:type="dcterms:W3CDTF">2014-03-12T17:17:25Z</dcterms:modified>
  <cp:revision>14</cp:revision>
  <dc:subject/>
  <dc:title>PowerPoint Presentation</dc:title>
</cp:coreProperties>
</file>