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0996-D4F2-4A93-B0FE-ECC1B44F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1234-8FE1-4C28-82B3-529126C92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DA3-6A84-48F6-B4B2-08A2C028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85C-4EDB-46C8-B8AD-D3082A5A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A50-FFE7-4A27-93B5-97E7DDDA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3BC-CBF7-40C2-B14B-D2874B62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06C-47F0-47A6-B119-95F93B60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31A-2414-4112-B66C-24BEC9F2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E8A-7E4E-4B32-85BC-6D043631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840-80C2-4E13-8830-AFEFDEAF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892-9BEA-45AC-BAFB-D0E66DBC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199-C459-418E-B60D-B621123E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350-2C0C-4865-AECF-D6215FA0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DA4-206A-49E3-AE3D-BDC87786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C07A-2CD6-41B4-8893-CEE83683E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7: Life Under Le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at political, economic, and cultural life was like under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rule from 1921 to 1924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centrality of the proletariat to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vision for political, economic, and cultural lif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y Lenin adopted these particular progr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Group Work - St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Work on prewriting check-in.  Rolling Dea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2:44:24Z</dcterms:created>
  <dc:creator>Technology Department</dc:creator>
  <dc:description/>
  <dc:language>en-US</dc:language>
  <cp:lastModifiedBy>WPS</cp:lastModifiedBy>
  <dcterms:modified xsi:type="dcterms:W3CDTF">2014-03-06T13:05:16Z</dcterms:modified>
  <cp:revision>13</cp:revision>
  <dc:subject/>
  <dc:title>PowerPoint Presentation</dc:title>
</cp:coreProperties>
</file>