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CFD9-A18A-48E6-853A-6AAA707A7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D4F1-A392-4866-BFBC-E9E4E048A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6099-09F2-42E9-B431-C16F68D5B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F19F-A1B7-4834-A5CD-33E95BD9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EA6B-034A-4EE1-8914-85673815D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0550-8B4D-436B-9A7B-25E5DD076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B36D-45CB-4A21-A32C-92E78E94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F618-0647-4BAE-AD8B-A0CA4D68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8E69-94DA-41DA-93B6-258ADD8A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F705-5A53-4183-8D6B-BDD2D7E5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71BE-436C-4C8E-AFD4-0C30F3A4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9960-48CA-4A5B-B601-961FAB25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673F-0794-4EF7-905E-D8902213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DEB9-4809-4CFF-873D-58D79EDF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74E5-A216-48B3-B5DE-19CAD9C14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2286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idot"/>
              </a:rPr>
              <a:t>L4: Lenini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80880" y="1371600"/>
            <a:ext cx="518184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The philosophy of Vladimir Len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How Lenin</a:t>
            </a:r>
            <a:r>
              <a:rPr b="1" lang="ja-JP" sz="26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s philosophy relates to that of Mar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How Lenin</a:t>
            </a:r>
            <a:r>
              <a:rPr b="1" lang="ja-JP" sz="26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s philosophy reflects the Russian experi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Fishbowl Discus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273320" indent="-533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5715000" y="1371600"/>
            <a:ext cx="312408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Home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Work on writing portfolio and first prewriting check 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idot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620720" indent="-8967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Rank your Top 3 Cho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3120" indent="-57312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idot"/>
              </a:rPr>
              <a:t>Historical Materialism/ Imperi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idot"/>
              </a:rPr>
              <a:t>R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idot"/>
              </a:rPr>
              <a:t>Party/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idot"/>
              </a:rPr>
              <a:t>Opportunism, Pragmatism, and Mar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Group One: Historical Materialism/Imperi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How does Lenin build on Marx’s historical materialism?  What changes does he ma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Why does Lenin see imperialism as the eve of the socialist rev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How does Lenin’s view of imperialism make it possible for him to see that communism could in fact come to Russ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Group Two: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For Lenin, in what types of nations can communism occ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How is this related to his view of imperialis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How do communist revolutions unfold in each type of n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How does Lenin’s theory of communist revolution in nonindustrialized nations directly connect to the historical experience of Russ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Group Three: Party/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What is the role of the party in Lenin’s theory of revolution?  How is this a departure from Marx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What happens to the party after the rev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How does Lenin invert Marx to prioritize politics over econom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Group Four: Opportunism, Pragmatism, and Mar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Is Lenin a pragmatist, applying Marx to Russia?  Does Lenin extend Marx?  Make it applicable to the real world rather than studying it in the abstra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Can we say that Marx is a philosopher and Lenin is a social activ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Does Lenin distort Marx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Is Lenin an opportun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7:53:39Z</dcterms:created>
  <dc:creator>Technology Department</dc:creator>
  <dc:description/>
  <dc:language>en-US</dc:language>
  <cp:lastModifiedBy>WPS</cp:lastModifiedBy>
  <dcterms:modified xsi:type="dcterms:W3CDTF">2014-02-28T15:55:10Z</dcterms:modified>
  <cp:revision>15</cp:revision>
  <dc:subject/>
  <dc:title>PowerPoint Presentation</dc:title>
</cp:coreProperties>
</file>