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9289-D006-42AF-8703-BACCD489C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7B60-A6C3-42A2-B6B6-35CF97961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908-DB69-4199-8B3B-3A1D0BE1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4F8-F6A5-420B-9B9A-461E30DD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949-0906-4507-8621-69B27E9A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F15-E33A-4702-B0CD-9CEB0D51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691-C589-4BB3-BCCE-A1EC1A2F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349-F26D-47AC-AAA6-8DEB6810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DEF-56D8-4289-A3D4-6591DBBD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7AA-18F6-4218-912C-5F7DD129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6B6-58AE-4A44-9886-4093DB3C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B73-C8D1-48BA-8E2E-3FD34A84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628-7FBD-4EDC-9893-57411BA4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6BF-22B5-4B5B-AD27-AE5F31AC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8528-AE6B-4754-BB1E-1888BBADD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</a:rPr>
              <a:t>L4: Leni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371600"/>
            <a:ext cx="5181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philosophy of Vladimir Len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How Lenin</a:t>
            </a:r>
            <a:r>
              <a:rPr b="1" lang="ja-JP" sz="26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s philosophy relates to that of Mar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How Lenin</a:t>
            </a:r>
            <a:r>
              <a:rPr b="1" lang="ja-JP" sz="26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s philosophy reflects the Russian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Fishbowl Discu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371600"/>
            <a:ext cx="3124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Work on writing portfolio and first prewriting check 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89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Rank your Top 3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Historical Materialism/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Party/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Opportunism, Pragmatism, and Ma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One: Historical Materialism/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 build on Marx’s historical materialism?  What changes does he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y does Lenin see imperialism as the eve of the socialist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’s view of imperialism make it possible for him to see that communism could in fact come to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Two: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For Lenin, in what types of nations can communism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is this related to his view of imperial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 communist revolutions unfold in each type of 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’s theory of communist revolution in nonindustrialized nations directly connect to the historical experience of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Three: Party/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is the role of the party in Lenin’s theory of revolution?  How is this a departure from Mar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happens to the party after the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 invert Marx to prioritize politics over econo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Four: Opportunism, Pragmatism, and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Is Lenin a pragmatist, applying Marx to Russia?  Does Lenin extend Marx?  Make it applicable to the real world rather than studying it in the abs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Can we say that Marx is a philosopher and Lenin is a social activ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Does Lenin distort Mar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Is Lenin an opportun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3:39Z</dcterms:created>
  <dc:creator>Technology Department</dc:creator>
  <dc:description/>
  <dc:language>en-US</dc:language>
  <cp:lastModifiedBy>WPS</cp:lastModifiedBy>
  <dcterms:modified xsi:type="dcterms:W3CDTF">2014-02-28T15:55:10Z</dcterms:modified>
  <cp:revision>15</cp:revision>
  <dc:subject/>
  <dc:title>PowerPoint Presentation</dc:title>
</cp:coreProperties>
</file>