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976D-38EF-4AB4-B5E7-F467AB537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8770-1909-4066-862F-15DAFA547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6D23-7A0F-4A28-BCB3-3F61B3D4B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6CA0-AE1B-462E-B41A-CFB775930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D1C-3FB1-4468-8E3D-6DC0CBC0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7F9-F05E-4344-9E37-993B2A16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DFE4-AB91-4E9E-9F7C-C013A4E2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5FB-2D44-4F69-8879-1A615587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944-49C3-40E0-8B73-3BB61ED4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2BB-709A-4617-BDD0-5B0666C2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1C7-2890-42B6-8EFB-96A95D3B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367-82D2-422C-881F-A792049E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89EC-EE6B-4180-B811-40361598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B696-41D9-49FA-9B8B-EFCEBE78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D62-9AE2-498C-A734-C5097289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4D5-9C71-462B-9F55-0E8489D9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3997-2F8C-4C66-8D89-0C6435131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3: A Brief History of Russia: 1861-19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066680"/>
            <a:ext cx="434340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Key events in Russian history between 1861 and 1905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he essential experiences of the Russian people during this tim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How these experiences might lead to the rise of Marxism in Russ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Brainst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76920" y="1066680"/>
            <a:ext cx="396216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Read chapter on “Leninism.”  We will have a series of fishbowl discussions on the following topic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Historical materialism/imperialis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Revolution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Party/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Opportunism, pragmatism, and Marx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Choose one to be an “expert” in.  Due Fri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ork on writing portfolio and first prewriting check 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hat was the course/experience of Russian history from 1861 to 190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hy was Russia the first nation to have a communist rev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Given Marxism, why is this paradox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3002040" y="4191120"/>
            <a:ext cx="375444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Brainstorm: Russian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hat do you remember about Russian hi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5130720" y="2590920"/>
            <a:ext cx="4013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A Brief History of Russia 1861-19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Our task for today will be to learn about and summarize Russian history from 1861 to 1905 (the pivotal background period for the coming Russian Revol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To do this we will have a whole group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Circle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Photos to look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http://blogs.denverpost.com/captured/2009/10/21/color-photography-from-russian-in-the-early-1900s/544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http://upload.wikimedia.org/wikipedia/commons/e/e0/Burlakwomen.jp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53:39Z</dcterms:created>
  <dc:creator>Technology Department</dc:creator>
  <dc:description/>
  <dc:language>en-US</dc:language>
  <cp:lastModifiedBy>WPS</cp:lastModifiedBy>
  <dcterms:modified xsi:type="dcterms:W3CDTF">2014-02-25T18:57:41Z</dcterms:modified>
  <cp:revision>15</cp:revision>
  <dc:subject/>
  <dc:title>PowerPoint Presentation</dc:title>
</cp:coreProperties>
</file>