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FA4A-966C-43DC-9F1E-5DAE2D7A0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3CFC-2FF8-4C53-AEDC-C2238DA66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6E12-5B49-40A5-825F-46E55D47B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4606-F0DC-4FE5-8F3B-1BE5AFC47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C33-D184-4132-A072-871E95D6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D98-8A9C-45ED-A520-7B79661A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751-BAD3-4D09-81FC-CE2FA2B0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F26-02AE-488D-8991-495AB024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3BB-AC3B-4C00-9BF3-CF7014D3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08D-A51A-4CB9-84DD-329CDA99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A72-4930-4C13-B12A-8A982A3F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38F-F4DE-402D-8EEA-0645D8BE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B0C-3691-4F5D-81F8-F9CEECBE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3AC-DD0C-4386-B134-AA01B8DF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1D8-8746-4B5B-8E00-65FE7887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287-30E1-4C10-8128-931078D9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EE90-2F22-4092-ADD1-3BA5965BC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3: A Brief History of Russia: 1861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066680"/>
            <a:ext cx="43434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Key events in Russian history between 1861 and 1905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he essential experiences of the Russian people during this tim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How these experiences might lead to the rise of Marxism in Russ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Brainst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76920" y="1066680"/>
            <a:ext cx="396216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Read chapter on “Leninism.”  We will have a series of fishbowl discussions on the following topic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istorical materialism/imperialis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Revolutio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Party/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Opportunism, pragmatism, and Marx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Choose one to be an “expert” in.  Due Fri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ork on writing portfolio and first prewriting check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at was the course/experience of Russian history from 1861 to 190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y was Russia the first nation to have a communist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Given Marxism, why is this paradox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3002040" y="4191120"/>
            <a:ext cx="37544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Brainstorm: Russian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at do you remember about Russian hi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5130720" y="2590920"/>
            <a:ext cx="4013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A Brief History of Russia 1861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Our task for today will be to learn about and summarize Russian history from 1861 to 1905 (the pivotal background period for the coming Russian Revol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To do this we will have a whole group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Circle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Photos to look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ttp://blogs.denverpost.com/captured/2009/10/21/color-photography-from-russian-in-the-early-1900s/544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ttp://upload.wikimedia.org/wikipedia/commons/e/e0/Burlakwomen.jp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3:39Z</dcterms:created>
  <dc:creator>Technology Department</dc:creator>
  <dc:description/>
  <dc:language>en-US</dc:language>
  <cp:lastModifiedBy>WPS</cp:lastModifiedBy>
  <dcterms:modified xsi:type="dcterms:W3CDTF">2014-02-25T18:57:41Z</dcterms:modified>
  <cp:revision>15</cp:revision>
  <dc:subject/>
  <dc:title>PowerPoint Presentation</dc:title>
</cp:coreProperties>
</file>