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DE4-0C80-4800-BBCD-515D68ED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483-03B7-43ED-8AA9-B31EA312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596-446A-4F0D-ABCD-8104F518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56C-B984-4941-82F9-7D852DFE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D8F-956A-4B70-AA12-27593267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392-0B8F-449E-BD1C-60E77A96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56B-460C-4A44-9F8C-1E2F494A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0D6-0846-428F-B87F-3DBA4BEE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9AE-4CD1-4286-8220-2FE0C361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B15-0584-4CE0-A2C8-FA762105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D3F-E72D-4143-884C-8318A95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D68-13B4-4B3A-BB8E-F9237C03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FAA1-8DF0-4C00-A281-34D1D42CD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Lesson 19: 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4920" y="1295280"/>
            <a:ext cx="449568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  To engage in a discussion of Nazi philosophy with particular focus to how it connects to the social change occurring in the Weimar Republic and how it previews the events of the Holocau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Brief intro to Naz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952880" y="1295280"/>
            <a:ext cx="365760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deology developed by Adolf Hitler and practiced by the Nazi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rticulated in Hitl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Mein Kampf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19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z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erived from the first two syllables of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tionalsozialistische Deutsche Arbeiterparte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National Socialist German Work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Party, NSD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On the far right of the political spectrum (extreme conserv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ascism (Mussoli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ocial Darwinism (Herbert Spen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Nietz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German Romanti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Volkish Thou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11880" y="4089240"/>
            <a:ext cx="28321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2:54:15Z</dcterms:created>
  <dc:creator>Technology Department</dc:creator>
  <dc:description/>
  <dc:language>en-US</dc:language>
  <cp:lastModifiedBy>WPS</cp:lastModifiedBy>
  <dcterms:modified xsi:type="dcterms:W3CDTF">2014-04-01T15:39:06Z</dcterms:modified>
  <cp:revision>6</cp:revision>
  <dc:subject/>
  <dc:title>PowerPoint Presentation</dc:title>
</cp:coreProperties>
</file>