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36D-9CE9-4E3D-B404-D9CF7959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5D5-7D8D-4468-B2A8-8E7B9467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B5E-3D06-4628-A257-86D3CFBE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620-C097-4041-B395-0B9773CC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9F7-5E05-4C6D-A13A-9EB10BDD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F68-459A-4679-9E29-CC4AEBD6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952-E24A-40A5-97A0-EA155498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54A-D7AF-4037-AB42-72939EC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961-FA09-4C48-A88F-382E2B7C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FD8-0F21-4080-B8BD-97619E7B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FDB-66E0-45C0-97E1-95DF14EF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AD0-FE4F-445A-A0CC-25C0544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ECB-DC5D-4C4B-AA59-CE9B1B2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5E7-BAAD-4E7F-986A-CD04501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5C7-6DB5-43DE-9582-A26E5053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17: Totalitarianism in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447920"/>
            <a:ext cx="4343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How and why Mussolini rose to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principles of Fasc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life was like in totalitarianism Italy and why it was totalitar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Key comparisons between fascism and commu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447920"/>
            <a:ext cx="38098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6T17:10:40Z</dcterms:modified>
  <cp:revision>31</cp:revision>
  <dc:subject/>
  <dc:title>PowerPoint Presentation</dc:title>
</cp:coreProperties>
</file>