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A9B8-D7CD-42C2-A7E5-E569BB74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328E-574E-42A6-B2A6-B51A7C4A0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C1C-AC3C-43A9-8B19-1C3A7146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885-F519-4806-91E7-B3EBA8C5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5DB-C61D-4874-8EAF-A8818586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443-E30A-4461-AA0A-68E7887A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3BD-DD76-4BC0-B2DB-1A7E8F7B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88E-8351-4442-B482-8040AEC7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CF5-0CA5-46BC-A8B6-23172BA6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72F-8FDA-40E6-A4B9-5300098F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9F4-9AFE-4147-847B-972A175A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BCA-20D5-4D39-B209-9278A7CF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95E-9BE2-464F-93C9-589E0D7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5B1-D10F-4D43-AEFB-4871CAF1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61CF-E2A9-4EE0-967F-090C36CF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17: Totalitarianism in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447920"/>
            <a:ext cx="4343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How and why Mussolini rose to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principles of Fasc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life was like in totalitarianism Italy and why it was totalitar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Key comparisons between fascism and commu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447920"/>
            <a:ext cx="38098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6T17:10:40Z</dcterms:modified>
  <cp:revision>31</cp:revision>
  <dc:subject/>
  <dc:title>PowerPoint Presentation</dc:title>
</cp:coreProperties>
</file>