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E55-CECF-42A0-BC16-CDF45AE2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FE43-3032-46A1-82E4-3B807E706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982-FB2D-48DD-9891-CB18FF4B1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C16E-A1B0-4DE7-A889-DAF1F5FD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C6A-71AB-4EC9-A76D-CCA66CDF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9DF-2441-471D-89B4-9F8E86CB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4F2-072C-463B-94AF-E5B3C553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F49-E83A-4B09-AE12-B05DF77C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59E-5FBC-44A5-85D6-971AE356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700-1EFC-4013-9C1C-166D63E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5F5-2AD9-440E-8BCE-3A5EED2F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AD8-F894-4BEF-9CC1-538A8C2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1F3-BDAA-4633-8787-16DB299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177-C82C-472C-ADA5-F27CA7F6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EF2-204C-4122-99BE-AD57090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4D1-EB4F-41B1-B5F1-3F124B6B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27D-6DAE-47B4-86F0-08542A4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F41-69D4-4968-AB1C-7B239382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rningsun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5: The Cultural Revolution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at the Cultural Revolution was and its effects on the Chines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e Cultural Revolution is an example of a totalitari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066680"/>
            <a:ext cx="39625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or class today, you learned about and reflected on the meaning of the Cultural Revolution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You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llowing the failur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Great Leap Forward, M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gan to believe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ommunist Party in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as being threate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pro-capitalist bourge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response, he launched the Cultural Revolution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Social movement designed to further cement communism in the country by removing capitalist elements from Chinese society.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doing so it involved major changes to Chinese politics, economics, and social life.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59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Today we will build on your understanding thus far and reflect on the significance of the Cultural R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e will visit the websit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morningsu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Go to the 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living revolution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 section.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Peruse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isten to the Radio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TV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a Movie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 Little Red Book: Ask Chairman Mao for the Answers to your Problems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ake an English Less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you peruse complet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Choose one source (song, film clip, the English lesso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Briefly 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is the source an example of the 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cultural change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 enforced by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Why does the source suggest about what daily life was like during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does the source provide evidence for the Cultural Revolution as a form of totalitarian rule AND panoptic control?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video and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4T14:58:49Z</dcterms:modified>
  <cp:revision>27</cp:revision>
  <dc:subject/>
  <dc:title>PowerPoint Presentation</dc:title>
</cp:coreProperties>
</file>