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8A1B-8166-400C-9824-B224A97E1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AEC6-7F7C-441A-8625-95CE64D47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51C7-1213-4601-BF7E-C87E64F05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FD42-67A8-4988-A74F-35FB838FF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147E-10EA-40D4-8F2E-96280C8AD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146B-8399-478C-9124-CBF60B6F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9B61-2A3D-43FA-A910-776536C6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B5D3-8FFE-4F17-9896-7227D8778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8652-0826-45D9-94BA-3D9088FB6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53AF-E0BD-4276-B54C-D1F4A981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3067-EADB-4838-A131-6E9C0508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F441-51D7-44AE-8EC1-7C8D159E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2BB2-C410-440E-AE08-FA65E309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A661-F948-461C-81B9-D98E16D1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16BF-918A-4CFA-A878-1EF62A69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26E8-8C0D-4153-8395-8129FEDB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2FEE-47F2-4C45-B5AF-D27A85AA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113A-719C-49F4-98D6-4C46871F2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orningsun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15: The Cultural Revolution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04920" y="1066680"/>
            <a:ext cx="4343400" cy="556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What the Cultural Revolution was and its effects on the Chinese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How the Cultural Revolution is an example of a totalitarianis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Group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800600" y="1066680"/>
            <a:ext cx="3962520" cy="556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Readings for Italy Discussion on Thurs 3/27 (Optional 50 point summative grade!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Continue to work on pre-writing (1&amp;2): Rolling Deadline…Remembe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Last Day to Turn in Working Paper: Wed 4/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The Cultural Revolution (1966-197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6091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For class today, you learned about and reflected on the meaning of the Cultural Revolution in Ch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You learne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Following the failure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Great Leap Forward, Ma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began to believe th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Communist Party in Ch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was being threatened 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pro-capitalist bourgeo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element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In response, he launched the Cultural Revolution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Social movement designed to further cement communism in the country by removing capitalist elements from Chinese society.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In doing so it involved major changes to Chinese politics, economics, and social life.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75912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The Cultural Revolution (1966-197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Today we will build on your understanding thus far and reflect on the significance of the Cultural Revolu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We will visit the website: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Didot"/>
                <a:hlinkClick r:id="rId1"/>
              </a:rPr>
              <a:t>www.morningsun.or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Go to the </a:t>
            </a:r>
            <a:r>
              <a:rPr b="0" lang="ja-JP" sz="26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living revolution</a:t>
            </a:r>
            <a:r>
              <a:rPr b="0" lang="ja-JP" sz="26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 section.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Peruse 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Listen to the Radio,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Watch TV,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Watch a Movie,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The Little Red Book: Ask Chairman Mao for the Answers to your Problems,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 and 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Take an English Lesson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As </a:t>
            </a: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you peruse complete the followi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Choose one source (song, film clip, the English lesson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Briefly no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How is the source an example of the </a:t>
            </a:r>
            <a:r>
              <a:rPr b="0" lang="ja-JP" sz="18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cultural change</a:t>
            </a:r>
            <a:r>
              <a:rPr b="0" lang="ja-JP" sz="18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 enforced by the Cultural Revol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Why does the source suggest about what daily life was like during the Cultural Revol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How does the source provide evidence for the Cultural Revolution as a form of totalitarian rule AND panoptic control?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Insights/observations from the video and your home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Insights/observations from the webs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21:48:54Z</dcterms:created>
  <dc:creator>Technology Department</dc:creator>
  <dc:description/>
  <dc:language>en-US</dc:language>
  <cp:lastModifiedBy>WPS</cp:lastModifiedBy>
  <dcterms:modified xsi:type="dcterms:W3CDTF">2014-03-24T14:58:49Z</dcterms:modified>
  <cp:revision>27</cp:revision>
  <dc:subject/>
  <dc:title>PowerPoint Presentation</dc:title>
</cp:coreProperties>
</file>