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5019D-C8E5-4027-AD65-1AC3C85A95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73E6E-D3B6-414E-9097-2FDF6B4F09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F526F-CC52-4B7E-B9B4-F2AEDA52D4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212E2-7D85-489C-BB36-E46F2B90C0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D1BD-F3F1-4A7D-9691-A6185AFD8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6FDE-6F0D-4D5E-9426-9A5A1469A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D146-7306-4BD2-988A-04E8AF75E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6FBC-CA19-48FC-9B31-22236A937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2861-9966-4DB7-90CC-728F09E79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FAD2-90FA-458D-B17A-4D29F7B50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B9F6-2402-4965-A4B7-21B3173DD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5DEB-72C7-4092-A96A-0F968A221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7655-08FB-4385-8312-226512E3E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5238-2242-4DC2-B2A8-FF591B617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14D8-EF76-4907-ACF5-0B72F7D64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305E-E9C8-429D-8C10-4653F2988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D9CC0-1D69-4785-A6F4-2E589AFFA8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9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itle 1"/>
          <p:cNvSpPr/>
          <p:nvPr/>
        </p:nvSpPr>
        <p:spPr>
          <a:xfrm>
            <a:off x="0" y="2286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</a:rPr>
              <a:t>L14: The Great Leap Forw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2"/>
          <p:cNvSpPr/>
          <p:nvPr/>
        </p:nvSpPr>
        <p:spPr>
          <a:xfrm>
            <a:off x="228600" y="1295280"/>
            <a:ext cx="4038480" cy="533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Didot"/>
              </a:rPr>
              <a:t>Agen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Didot"/>
              </a:rPr>
              <a:t>Objective</a:t>
            </a:r>
            <a:r>
              <a:rPr b="1" lang="en-US" sz="2000" spc="-1" strike="noStrike">
                <a:solidFill>
                  <a:srgbClr val="000000"/>
                </a:solidFill>
                <a:latin typeface="Didot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idot"/>
              </a:rPr>
              <a:t>To underst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idot"/>
              </a:rPr>
              <a:t>What the Great Leap Forward w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idot"/>
              </a:rPr>
              <a:t>The effects of the Great Leap Forwar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idot"/>
              </a:rPr>
              <a:t>How the Great Leap Forward relates to Mao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idot"/>
              </a:rPr>
              <a:t>Whether the Great Leap Forward is an example of totalitarianism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Didot"/>
              </a:rPr>
              <a:t>Schedule</a:t>
            </a:r>
            <a:r>
              <a:rPr b="1" lang="en-US" sz="2000" spc="-1" strike="noStrike">
                <a:solidFill>
                  <a:srgbClr val="000000"/>
                </a:solidFill>
                <a:latin typeface="Didot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idot"/>
              </a:rPr>
              <a:t>Video Cl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idot"/>
              </a:rPr>
              <a:t>Whole Class Discu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2"/>
          <p:cNvSpPr/>
          <p:nvPr/>
        </p:nvSpPr>
        <p:spPr>
          <a:xfrm>
            <a:off x="4572000" y="1295280"/>
            <a:ext cx="4191120" cy="533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Didot"/>
              </a:rPr>
              <a:t>Homework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idot"/>
              </a:rPr>
              <a:t>Go to course website and view the videos on the Cultural Revolution.  After viewing, answer 2 of the critical thinking questions.  Due: L15 Tues 3/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idot"/>
              </a:rPr>
              <a:t>Readings for Italy Discussion on Thurs 3/27 (Optional 50 point summative grade!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idot"/>
              </a:rPr>
              <a:t>Continue to work on pre-writing (1&amp;2): Rolling Deadline…Rememb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7800" indent="-2887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Didot"/>
                <a:ea typeface="Didot"/>
              </a:rPr>
              <a:t>Last Day to Turn in Working Paper: Wed 4/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3808440" y="438300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idot"/>
              </a:rPr>
              <a:t>Mao</a:t>
            </a:r>
            <a:r>
              <a:rPr b="0" lang="ja-JP" sz="4400" spc="-1" strike="noStrike">
                <a:solidFill>
                  <a:srgbClr val="000000"/>
                </a:solidFill>
                <a:latin typeface="Didot"/>
              </a:rPr>
              <a:t>’</a:t>
            </a:r>
            <a:r>
              <a:rPr b="0" lang="en-US" sz="4400" spc="-1" strike="noStrike">
                <a:solidFill>
                  <a:srgbClr val="000000"/>
                </a:solidFill>
                <a:latin typeface="Didot"/>
              </a:rPr>
              <a:t>s Programs in the PR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dot"/>
              </a:rPr>
              <a:t>Over the next two classes we will learn about two programs Mao put into place in China after 1949 to help reinforce communism in the People</a:t>
            </a:r>
            <a:r>
              <a:rPr b="0" lang="ja-JP" sz="2800" spc="-1" strike="noStrike">
                <a:solidFill>
                  <a:srgbClr val="000000"/>
                </a:solidFill>
                <a:latin typeface="Didot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Didot"/>
              </a:rPr>
              <a:t>s Republic of China.  Each of these programs exemplify the ways in which Mao constructed a totalitarian regime in Chi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Dido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</a:rPr>
              <a:t>The Great Leap Forward (1958-196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Dido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</a:rPr>
              <a:t>The Cultural Revolution (1966-1976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idot"/>
              </a:rPr>
              <a:t>The Great Leap Forwa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Didot"/>
              </a:rPr>
              <a:t>(1958-196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75438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Didot"/>
              </a:rPr>
              <a:t>Economic and social campaign which aimed to use China</a:t>
            </a:r>
            <a:r>
              <a:rPr b="0" lang="ja-JP" sz="2200" spc="-1" strike="noStrike">
                <a:solidFill>
                  <a:srgbClr val="000000"/>
                </a:solidFill>
                <a:latin typeface="Didot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Didot"/>
              </a:rPr>
              <a:t>s vast population to rapidly transform the country from an agricultural economy to a modern communist stat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Didot"/>
              </a:rPr>
              <a:t>Required that all wealthier peasants give their land over to the state to create massive collectiv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Didot"/>
              </a:rPr>
              <a:t>These collectives were th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Didot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Didot"/>
              </a:rPr>
              <a:t>worked by all former peasant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Didot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Didot"/>
              </a:rPr>
              <a:t>to grow crops and/or to produc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Didot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Didot"/>
              </a:rPr>
              <a:t>stee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Didot"/>
              </a:rPr>
              <a:t>Let</a:t>
            </a:r>
            <a:r>
              <a:rPr b="0" lang="ja-JP" sz="2200" spc="-1" strike="noStrike">
                <a:solidFill>
                  <a:srgbClr val="000000"/>
                </a:solidFill>
                <a:latin typeface="Didot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Didot"/>
              </a:rPr>
              <a:t>s learn more in detail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5105520" y="3960720"/>
            <a:ext cx="4038480" cy="28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idot"/>
              </a:rPr>
              <a:t>The Great Leap Forward (1958-1961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</a:rPr>
              <a:t>Whole Group Discu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dot"/>
              </a:rPr>
              <a:t>What was the goal of the GLF (intended vs. concealed aims)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dot"/>
              </a:rPr>
              <a:t>What were the effects of the GLF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dot"/>
              </a:rPr>
              <a:t>Is the GLF consistent with Maoist ideolog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dot"/>
              </a:rPr>
              <a:t>How is the GLF an example of the types of programs we might expect to see from a totalitarian regim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dot"/>
              </a:rPr>
              <a:t>What was the purpose of collectivization?  Do you think it could have </a:t>
            </a:r>
            <a:r>
              <a:rPr b="0" lang="ja-JP" sz="2000" spc="-1" strike="noStrike">
                <a:solidFill>
                  <a:srgbClr val="000000"/>
                </a:solidFill>
                <a:latin typeface="Didot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Didot"/>
              </a:rPr>
              <a:t>beneficial</a:t>
            </a:r>
            <a:r>
              <a:rPr b="0" lang="ja-JP" sz="2000" spc="-1" strike="noStrike">
                <a:solidFill>
                  <a:srgbClr val="000000"/>
                </a:solidFill>
                <a:latin typeface="Didot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Didot"/>
              </a:rPr>
              <a:t> effects for totalitarian contro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dot"/>
              </a:rPr>
              <a:t>How was the nature of the family changed by the GLF? What purposes might have been served by destroying traditional family structur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dot"/>
              </a:rPr>
              <a:t>How did the GLF mobilize people through fear of an enemy?  Who was that enem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dot"/>
              </a:rPr>
              <a:t>Note where you see panoptic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9T21:48:54Z</dcterms:created>
  <dc:creator>Technology Department</dc:creator>
  <dc:description/>
  <dc:language>en-US</dc:language>
  <cp:lastModifiedBy>WPS</cp:lastModifiedBy>
  <dcterms:modified xsi:type="dcterms:W3CDTF">2014-03-21T13:04:07Z</dcterms:modified>
  <cp:revision>20</cp:revision>
  <dc:subject/>
  <dc:title>PowerPoint Presentation</dc:title>
</cp:coreProperties>
</file>