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05EA-C2CA-4501-A6D7-D080AB19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6DF6-010E-40DB-9CDF-E25E180F9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4ED4-AB75-46C5-A2EC-1C1EE3D87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A7B-F201-4C6C-91B6-490B4A01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AEC-7759-4B7B-BA1B-F7AB8F15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95F-4593-4D24-ABB4-41CD7D50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50D-98E6-4511-96BD-D613CD2E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9DC-C7CF-4353-A146-64B1D3AD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512-0CAA-4209-B575-5A05FEE5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5F8-875B-4D41-A6FC-6BB106C5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3D5-DD25-4FCF-BC50-242CC14B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D75-98A5-4BFC-B1FA-21D196B2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3CAD-CD6F-4100-9260-D7C81770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061-B0D5-4BA9-AF28-3F59ABBF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A21-E1A2-466F-9D45-1DA79B5E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73A7-D0FD-4F46-8620-633E24676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oviethistory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idot"/>
              </a:rPr>
              <a:t>L10: Social and Cultural Life Under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600200"/>
            <a:ext cx="5334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Stalin and the Soviet Government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s role in social and cultural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How this involvement exemplifies totalitarianism and panoptic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867280" y="1523880"/>
            <a:ext cx="266724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Work on prewriting check-in.  Rolling Deadline—though in the next week would be ide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Social and Cultural Life Under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Today we will be studying what social and cultural life were like under Sta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In particular we will want to look at how Stalin applied totalitarian rule and panoptic control to social and cultur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661000" y="1219320"/>
            <a:ext cx="3483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Task for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Visit the websit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Didot"/>
                <a:hlinkClick r:id="rId1"/>
              </a:rPr>
              <a:t>www.soviethistory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hoose 2+ of the areas to explore below (read the essay, look at the images, watch the vide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For EACH answer the following questions: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In one sentence describe life in the area you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In a list, identify the characteristics of totalitarianism present in tha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3000" y="1981080"/>
          <a:ext cx="6858000" cy="3127320"/>
        </p:xfrm>
        <a:graphic>
          <a:graphicData uri="http://schemas.openxmlformats.org/drawingml/2006/table">
            <a:tbl>
              <a:tblPr/>
              <a:tblGrid>
                <a:gridCol w="3505320"/>
                <a:gridCol w="3352680"/>
              </a:tblGrid>
              <a:tr h="1334520"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Ar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29: Proletarian Wri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opular Film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Soviet Rea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9: Cult of Person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Scienc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Pilots and Explor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Rebuilding of Mosco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9: Great Fergana C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0"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Family Lif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avlik Morozov  (Spying on Fami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Childhood Under Stal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Abolition of Legal Abor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Personal Lif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29: Churches Cl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hysical Cul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The Great T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5:17:30Z</dcterms:created>
  <dc:creator>Technology Department</dc:creator>
  <dc:description/>
  <dc:language>en-US</dc:language>
  <cp:lastModifiedBy>WPS</cp:lastModifiedBy>
  <dcterms:modified xsi:type="dcterms:W3CDTF">2014-03-12T17:17:25Z</dcterms:modified>
  <cp:revision>14</cp:revision>
  <dc:subject/>
  <dc:title>PowerPoint Presentation</dc:title>
</cp:coreProperties>
</file>