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CFE1-0A2A-4B45-9E6A-39FD8BA61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CB42-3182-4A71-9975-FCEFA6078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0FCA-EB52-40F0-B1EA-00BBE74DF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5FC7-1B5A-4735-8A60-E1A66B870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BB3D-4BC5-428A-BB8D-252CA3CB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F7ED-0C2F-44D5-9DF1-2E4FAB2D4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58BC-0E8E-4A97-828E-A3108FDC5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1AB6-6D8F-462B-8021-C903964C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26C7-53BA-4519-B7EA-3F150E66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D5E4-A256-4ADB-BC96-C2171F15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637F-2BD7-4293-952C-77030491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35CD-8ECF-41F1-BE8F-1032DF41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E992-0D6E-41C4-84A0-08A16F07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2A3D-3E06-44AE-B009-E582E303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EEC6-D630-4C28-9D93-99D1EF14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983C-7760-4829-A65B-2F1761F80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oviethistory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Didot"/>
              </a:rPr>
              <a:t>L10: Social and Cultural Life Under Stal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80880" y="1600200"/>
            <a:ext cx="53341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Stalin and the Soviet Government</a:t>
            </a:r>
            <a:r>
              <a:rPr b="1" lang="ja-JP" sz="24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s role in social and cultural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How this involvement exemplifies totalitarianism and panoptic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Group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5867280" y="1523880"/>
            <a:ext cx="266724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Didot"/>
              </a:rPr>
              <a:t>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Work on prewriting check-in.  Rolling Deadline—though in the next week would be idea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</a:rPr>
              <a:t>Social and Cultural Life Under Stal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Today we will be studying what social and cultural life were like under Stal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In particular we will want to look at how Stalin applied totalitarian rule and panoptic control to social and cultural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5661000" y="1219320"/>
            <a:ext cx="34830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</a:rPr>
              <a:t>Task for To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Visit the website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Didot"/>
                <a:hlinkClick r:id="rId1"/>
              </a:rPr>
              <a:t>www.soviethistory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Choose 2+ of the areas to explore below (read the essay, look at the images, watch the video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For EACH answer the following questions:</a:t>
            </a: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idot"/>
              </a:rPr>
              <a:t>In one sentence describe life in the area you s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idot"/>
              </a:rPr>
              <a:t>In a list, identify the characteristics of totalitarianism present in that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43000" y="1981080"/>
          <a:ext cx="6858000" cy="3127320"/>
        </p:xfrm>
        <a:graphic>
          <a:graphicData uri="http://schemas.openxmlformats.org/drawingml/2006/table">
            <a:tbl>
              <a:tblPr/>
              <a:tblGrid>
                <a:gridCol w="3505320"/>
                <a:gridCol w="3352680"/>
              </a:tblGrid>
              <a:tr h="1334520">
                <a:tc>
                  <a:txBody>
                    <a:bodyPr lIns="90000" rIns="90000" anchor="t">
                      <a:noAutofit/>
                    </a:bodyPr>
                    <a:p>
                      <a:pPr lvl="1" marL="4572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Didot"/>
                          <a:ea typeface="ＭＳ Ｐゴシック"/>
                        </a:rPr>
                        <a:t>Art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29: Proletarian Writ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4: Popular Film Indus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4: Soviet Reali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9: Cult of Persona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Didot"/>
                          <a:ea typeface="ＭＳ Ｐゴシック"/>
                        </a:rPr>
                        <a:t>Scienc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6: Pilots and Explorer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6: Rebuilding of Moscow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9: Great Fergana Ca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800">
                <a:tc>
                  <a:txBody>
                    <a:bodyPr lIns="90000" rIns="90000" anchor="t">
                      <a:noAutofit/>
                    </a:bodyPr>
                    <a:p>
                      <a:pPr lvl="1" marL="4572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Didot"/>
                          <a:ea typeface="ＭＳ Ｐゴシック"/>
                        </a:rPr>
                        <a:t>Family Lif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2960" indent="-34128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4: Pavlik Morozov  (Spying on Famil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2960" indent="-34128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6: Childhood Under Stal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2960" indent="-34128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6: Abolition of Legal Abor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Didot"/>
                          <a:ea typeface="ＭＳ Ｐゴシック"/>
                        </a:rPr>
                        <a:t>Personal Lif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29: Churches Clo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4: Physical Cul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6: The Great Terr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5:17:30Z</dcterms:created>
  <dc:creator>Technology Department</dc:creator>
  <dc:description/>
  <dc:language>en-US</dc:language>
  <cp:lastModifiedBy>WPS</cp:lastModifiedBy>
  <dcterms:modified xsi:type="dcterms:W3CDTF">2014-03-12T17:17:25Z</dcterms:modified>
  <cp:revision>14</cp:revision>
  <dc:subject/>
  <dc:title>PowerPoint Presentation</dc:title>
</cp:coreProperties>
</file>