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5D8F-DBA1-4057-AD39-FA25C8CD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701-DBEC-4A5D-AF72-A011D48F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AD5-A2EC-42EF-9551-FF681BBD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2F3-FABD-483B-81C1-E909EF0D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D91-975F-4CEB-B278-E7952927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865-15E1-4B63-AB49-FCD9B655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545-9E63-4565-B36A-9F5CB15D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F7C-191A-4A9B-ADB5-941A2ACE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1AB-C91E-4715-B660-BF4A3FFE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A82-4CEF-4511-87A9-8F5887A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9C4-FF92-4B96-B2F8-769825D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317-FFD9-4A2A-9854-DD4F23F3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DF9-11BD-4066-BEF8-910F9E58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E74-A79C-4AEC-BB2B-AF1F06B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A569-B597-4B8F-9076-F7A1267A3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88920"/>
            <a:ext cx="9144000" cy="760716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</a:rPr>
              <a:t>L7: Imperialism in India</a:t>
            </a:r>
            <a:r>
              <a:rPr b="0" lang="en-US" sz="2800" spc="-1" strike="noStrike">
                <a:solidFill>
                  <a:srgbClr val="000000"/>
                </a:solidFill>
                <a:latin typeface="Dido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04920" y="1295280"/>
            <a:ext cx="358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Objectiv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o underst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The history of British rule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at forms of control were used to construct and maintain imperialism in In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</a:rPr>
              <a:t>Schedule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</a:rPr>
              <a:t>Whole Class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038480" y="1295280"/>
            <a:ext cx="48769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Didot"/>
                <a:ea typeface="Didot"/>
              </a:rPr>
              <a:t>Homewor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Dido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ad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piece on Chinese Resistance to Imperialism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A. Be able to describe: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aiping Rebellion, the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Self-Strengthening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ovement, and the Boxer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Rebe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B. Note any themes/tre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Due: L7 (Tues 12/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2.    Writing Process Portfolio Pre-Writing Check #2 Due L8 (Fri 12/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1:43:54Z</dcterms:created>
  <dc:creator>Technology Department</dc:creator>
  <dc:description/>
  <dc:language>en-US</dc:language>
  <cp:lastModifiedBy>WPS</cp:lastModifiedBy>
  <cp:lastPrinted>2010-11-30T21:01:27Z</cp:lastPrinted>
  <dcterms:modified xsi:type="dcterms:W3CDTF">2013-12-04T17:51:41Z</dcterms:modified>
  <cp:revision>32</cp:revision>
  <dc:subject/>
  <dc:title>PowerPoint Presentation</dc:title>
</cp:coreProperties>
</file>