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E23-5E41-4A14-9464-735491C8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112-8449-4DE3-8C65-C57EDC0A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FD8-DB31-49BA-99E2-844619CD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B39-4B48-47B2-A44B-6A56F26E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B14-D10E-4ADD-89DC-51C0DF75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8ED-298B-42A4-BE33-8A6A2822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8D-0545-4079-9819-72DEC91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859-C665-48DD-979A-4AF6E90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732-C6F0-497F-8CA9-F600D771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850-D4CF-43BB-8798-78B6B6F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5F3-8C5A-44FC-AAD9-1AFBD16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DF4-D739-49EF-A693-DD439A6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378-C81B-45EE-833B-E7F5382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2C1-9F3C-4BC9-A4C1-5628AC0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DEF4-29B9-4994-9AE7-EA014BEF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8892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L7: Imperialism in India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295280"/>
            <a:ext cx="358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history of British rule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forms of control were used to construct and maintain imperialism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038480" y="1295280"/>
            <a:ext cx="48769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Homewor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ad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iece on Chinese Resistance to Imperialism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. Be able to describe: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aiping Rebellion, th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elf-Strengthening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ovement, and the Boxer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be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B. Note any themes/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Due: L7 (Tues 12/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2.    Writing Process Portfolio Pre-Writing Check #2 Due L8 (Fri 12/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1:43:54Z</dcterms:created>
  <dc:creator>Technology Department</dc:creator>
  <dc:description/>
  <dc:language>en-US</dc:language>
  <cp:lastModifiedBy>WPS</cp:lastModifiedBy>
  <cp:lastPrinted>2010-11-30T21:01:27Z</cp:lastPrinted>
  <dcterms:modified xsi:type="dcterms:W3CDTF">2013-12-04T17:51:41Z</dcterms:modified>
  <cp:revision>32</cp:revision>
  <dc:subject/>
  <dc:title>PowerPoint Presentation</dc:title>
</cp:coreProperties>
</file>