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1DAD-7EE6-46A7-BC4E-D9A8DE3BD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AF4B-EBD1-4C75-8242-189679CD8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291-8E5C-4B7D-931B-B7A0DDBA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7B2-E9E2-46AF-8766-49526E9C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4D2-3B61-4123-B434-519999D5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01F-C719-4A97-88F9-14469488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267-C87A-4150-8923-056D23B9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324-2A41-4721-907F-6227C58C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84F-7F2A-4DEB-8280-B1998A3E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CD57-4E00-4BE1-9033-3CB00151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537A-90AC-4321-8FE0-2DFEC3DD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0DB-C540-471D-B0A9-3842BE56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227-85A2-479B-8638-97255979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CA78-5738-4592-878A-E2C9425A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EA8E-1EA1-4038-B3E7-4C8502EB7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-28440" y="0"/>
            <a:ext cx="9144000" cy="760716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L4: Imperialis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990720"/>
            <a:ext cx="43434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experience of Imperialism in Af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intersection between race, economics, and control in African imperial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 of Imperialism in Africa using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Magnificent African Cake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and </a:t>
            </a:r>
            <a:r>
              <a:rPr b="1" i="1" lang="en-US" sz="2200" spc="-1" strike="noStrike">
                <a:solidFill>
                  <a:srgbClr val="000000"/>
                </a:solidFill>
                <a:latin typeface="Didot"/>
              </a:rPr>
              <a:t>Things Fall A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800600" y="990720"/>
            <a:ext cx="380988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Didot"/>
              </a:rPr>
              <a:t>Homework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idot"/>
              </a:rPr>
              <a:t>Read “India Under British Rule” Due: L5 Fri 12/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idot"/>
              </a:rPr>
              <a:t>Writing Process Portfolio Pre-Writing Check Due: L5 Fri 12/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21:30:30Z</dcterms:created>
  <dc:creator>Technology Department</dc:creator>
  <dc:description/>
  <dc:language>en-US</dc:language>
  <cp:lastModifiedBy>Technology Department</cp:lastModifiedBy>
  <dcterms:modified xsi:type="dcterms:W3CDTF">2013-12-03T19:21:56Z</dcterms:modified>
  <cp:revision>25</cp:revision>
  <dc:subject/>
  <dc:title>PowerPoint Presentation</dc:title>
</cp:coreProperties>
</file>