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BF8-5D12-4B2C-9B4C-D52B9DDF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267-2D99-4334-ACD2-3163823B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700-66D2-4B1E-952F-8C7E1375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327-0370-4914-AED6-1574159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5EB-602A-4938-827A-A68B2FFB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03E-DB60-4711-A2C0-1E05AEBF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6B5-D5D4-4EF1-ABC7-2404896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7DA-73B5-4F75-9CF3-2780F432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DEC-A2B6-4335-A5DA-9E62E731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067-9064-4568-AD7F-737AA348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5E0-3D9C-4498-A1EE-3071DDD2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2F5-4239-4899-A95B-EC102DB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219-97BE-4D70-A0D7-E99AB0B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38E-592B-45FD-96D8-C5696AB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CC03-8278-439E-82FB-B085F42C9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-28440" y="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Imperialis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9907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xperience of Imperialism in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intersection between race, economics, and control in African imperia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 of Imperialism in Africa using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Magnificent African Cak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ings Fall A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990720"/>
            <a:ext cx="380988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Read “India Under British Rule”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Writing Process Portfolio Pre-Writing Check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1:30:30Z</dcterms:created>
  <dc:creator>Technology Department</dc:creator>
  <dc:description/>
  <dc:language>en-US</dc:language>
  <cp:lastModifiedBy>Technology Department</cp:lastModifiedBy>
  <dcterms:modified xsi:type="dcterms:W3CDTF">2013-12-03T19:21:56Z</dcterms:modified>
  <cp:revision>25</cp:revision>
  <dc:subject/>
  <dc:title>PowerPoint Presentation</dc:title>
</cp:coreProperties>
</file>