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84D4-3342-4657-B2A9-F5ECEDE75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9F99-7AE6-4FAC-B632-26D7A6C42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3BDE-ED62-4A14-95CC-95682C4B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753E-F4FE-46EA-823E-08A8F133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B9E9-F3BD-4D6C-ACE1-45A5B573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DA6A-E470-4C85-9D38-E865FD28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8C49-F533-413A-BA18-20D7B27C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F9BE-8F8B-4901-A7AD-3A901493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C425-B143-4232-AC93-5C16AE20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E4E1-2F79-428F-A97F-2EFDB739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5E28-95C2-4601-9A5D-04906AD1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D61C-9BE9-4645-9D7F-6EBCB319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D4CC-84F4-4A97-92EA-FEF67809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E0C4-62AE-4F6A-B860-ABCD070A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B4F2-D5E8-4E67-8C98-70A2448D1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46000"/>
          </a:blip>
          <a:stretch/>
        </p:blipFill>
        <p:spPr>
          <a:xfrm>
            <a:off x="-28440" y="0"/>
            <a:ext cx="9144000" cy="760716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4: Imperialism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04920" y="990720"/>
            <a:ext cx="4343400" cy="53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he experience of Imperialism in Afr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he intersection between race, economics, and control in African imperialis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hole Class Discussion of Imperialism in Africa using </a:t>
            </a:r>
            <a:r>
              <a:rPr b="1" i="1" lang="en-US" sz="2200" spc="-1" strike="noStrike">
                <a:solidFill>
                  <a:srgbClr val="000000"/>
                </a:solidFill>
                <a:latin typeface="Didot"/>
              </a:rPr>
              <a:t>Magnificent African Cake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and </a:t>
            </a:r>
            <a:r>
              <a:rPr b="1" i="1" lang="en-US" sz="2200" spc="-1" strike="noStrike">
                <a:solidFill>
                  <a:srgbClr val="000000"/>
                </a:solidFill>
                <a:latin typeface="Didot"/>
              </a:rPr>
              <a:t>Things Fall Ap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800600" y="990720"/>
            <a:ext cx="3809880" cy="53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Didot"/>
              </a:rPr>
              <a:t>Read “India Under British Rule” Due: L5 Fri 12/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Didot"/>
              </a:rPr>
              <a:t>Writing Process Portfolio Pre-Writing Check Due: L5 Fri 12/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21:30:30Z</dcterms:created>
  <dc:creator>Technology Department</dc:creator>
  <dc:description/>
  <dc:language>en-US</dc:language>
  <cp:lastModifiedBy>Technology Department</cp:lastModifiedBy>
  <dcterms:modified xsi:type="dcterms:W3CDTF">2013-12-03T19:21:56Z</dcterms:modified>
  <cp:revision>25</cp:revision>
  <dc:subject/>
  <dc:title>PowerPoint Presentation</dc:title>
</cp:coreProperties>
</file>