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E75E-88EE-40FB-ADE7-55D5E3DAA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B38C-E0C1-41A7-A172-01DF2D955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333F-86AE-42C5-805E-E3E623E9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03ED-C1A3-4B86-9377-4632C1E9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E7CA-1686-4324-A972-EE163B6B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9950-A779-494F-9CBB-7FA2D0F9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16A-B88F-42EE-A087-E6E57D86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6129-8A14-42E3-AA03-23819735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D09-B4B6-4739-BAA9-5E416208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15C-D45D-4F98-A5D1-6F579ECC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EC52-0976-4672-8515-CF4125ED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CA4-67BF-4D4C-A748-9BD53897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501-B17A-40C6-B927-4427C839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58CE-08AB-4641-9C74-17A62D6B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8A40-D5E8-41E0-8907-3E7572EFC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6000"/>
          </a:blip>
          <a:stretch/>
        </p:blipFill>
        <p:spPr>
          <a:xfrm>
            <a:off x="-28440" y="0"/>
            <a:ext cx="9144000" cy="760716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4: Imperialism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990720"/>
            <a:ext cx="434340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experience of Imperialism in Af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intersection between race, economics, and control in African imperial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 of Imperialism in Africa using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Magnificent African Cake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and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Things Fall A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00600" y="990720"/>
            <a:ext cx="380988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idot"/>
              </a:rPr>
              <a:t>Read “India Under British Rule” Due: L5 Fri 12/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idot"/>
              </a:rPr>
              <a:t>Writing Process Portfolio Pre-Writing Check Due: L5 Fri 12/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21:30:30Z</dcterms:created>
  <dc:creator>Technology Department</dc:creator>
  <dc:description/>
  <dc:language>en-US</dc:language>
  <cp:lastModifiedBy>Technology Department</cp:lastModifiedBy>
  <dcterms:modified xsi:type="dcterms:W3CDTF">2013-12-03T19:21:56Z</dcterms:modified>
  <cp:revision>25</cp:revision>
  <dc:subject/>
  <dc:title>PowerPoint Presentation</dc:title>
</cp:coreProperties>
</file>