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C072B-9F5E-4E16-8EE9-CDD20B7582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82D98-7B94-48CF-8C5A-A04E7A97A4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AE5D-C8ED-4E51-B165-79A6ED4EE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86DE-093A-43E0-8AF8-574C2AFF7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E8C0-B3BC-4238-96EA-FC3C4EC29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B330-2832-47A9-997B-8AA3EFF8B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E922-CC2C-4C48-B14B-6EED078B5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1A71-FD3A-4E83-9F89-0AB0AAA14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C579-4B58-47A1-BB9D-4600B7454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4F5A-5DF9-4616-AA33-464C3C2B4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D810-5C2B-4059-AD3A-E22C016B3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3BD5-B015-4AF4-B644-CAAB887F9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7DB8-2102-4CEC-89C4-B0345019E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C910-9E8E-44E8-9A1D-D2E16B938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56139-FC50-47FF-B3CC-C1791356EF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>
            <a:lum bright="46000"/>
          </a:blip>
          <a:stretch/>
        </p:blipFill>
        <p:spPr>
          <a:xfrm>
            <a:off x="0" y="88920"/>
            <a:ext cx="9144000" cy="7607160"/>
          </a:xfrm>
          <a:prstGeom prst="rect">
            <a:avLst/>
          </a:prstGeom>
          <a:ln w="0">
            <a:noFill/>
          </a:ln>
        </p:spPr>
      </p:pic>
      <p:sp>
        <p:nvSpPr>
          <p:cNvPr id="49" name="Title 1"/>
          <p:cNvSpPr/>
          <p:nvPr/>
        </p:nvSpPr>
        <p:spPr>
          <a:xfrm>
            <a:off x="0" y="3049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idot"/>
              </a:rPr>
              <a:t>L7: Imperialism in India</a:t>
            </a:r>
            <a:r>
              <a:rPr b="0" lang="en-US" sz="2800" spc="-1" strike="noStrike">
                <a:solidFill>
                  <a:srgbClr val="000000"/>
                </a:solidFill>
                <a:latin typeface="Didot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2"/>
          <p:cNvSpPr/>
          <p:nvPr/>
        </p:nvSpPr>
        <p:spPr>
          <a:xfrm>
            <a:off x="304920" y="1295280"/>
            <a:ext cx="3581280" cy="533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Didot"/>
              </a:rPr>
              <a:t>Agen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Didot"/>
              </a:rPr>
              <a:t>Objective</a:t>
            </a:r>
            <a:r>
              <a:rPr b="1" lang="en-US" sz="2200" spc="-1" strike="noStrike">
                <a:solidFill>
                  <a:srgbClr val="000000"/>
                </a:solidFill>
                <a:latin typeface="Didot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Didot"/>
              </a:rPr>
              <a:t>To understand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Didot"/>
              </a:rPr>
              <a:t>The history of British rule in Indi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Didot"/>
              </a:rPr>
              <a:t>What forms of control were used to construct and maintain imperialism in Indi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Didot"/>
              </a:rPr>
              <a:t>Schedule</a:t>
            </a:r>
            <a:r>
              <a:rPr b="1" lang="en-US" sz="2200" spc="-1" strike="noStrike">
                <a:solidFill>
                  <a:srgbClr val="000000"/>
                </a:solidFill>
                <a:latin typeface="Didot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Didot"/>
              </a:rPr>
              <a:t>Whole Class Discuss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2"/>
          <p:cNvSpPr/>
          <p:nvPr/>
        </p:nvSpPr>
        <p:spPr>
          <a:xfrm>
            <a:off x="4038480" y="1295280"/>
            <a:ext cx="4876920" cy="533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Didot"/>
                <a:ea typeface="Didot"/>
              </a:rPr>
              <a:t>Homework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Didot"/>
                <a:ea typeface="Didot"/>
              </a:rPr>
              <a:t>Read </a:t>
            </a:r>
            <a:r>
              <a:rPr b="1" lang="en-US" sz="2200" spc="-1" strike="noStrike">
                <a:solidFill>
                  <a:srgbClr val="000000"/>
                </a:solidFill>
                <a:latin typeface="Didot"/>
                <a:ea typeface="Didot"/>
              </a:rPr>
              <a:t>piece on Chinese Resistance to Imperialism and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Didot"/>
                <a:ea typeface="Didot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Didot"/>
                <a:ea typeface="Didot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Didot"/>
                <a:ea typeface="Didot"/>
              </a:rPr>
              <a:t>A. Be able to describe: </a:t>
            </a:r>
            <a:r>
              <a:rPr b="1" lang="en-US" sz="2200" spc="-1" strike="noStrike">
                <a:solidFill>
                  <a:srgbClr val="000000"/>
                </a:solidFill>
                <a:latin typeface="Didot"/>
                <a:ea typeface="Didot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Didot"/>
                <a:ea typeface="Didot"/>
              </a:rPr>
              <a:t>Taiping Rebellion, the </a:t>
            </a:r>
            <a:r>
              <a:rPr b="1" lang="en-US" sz="2200" spc="-1" strike="noStrike">
                <a:solidFill>
                  <a:srgbClr val="000000"/>
                </a:solidFill>
                <a:latin typeface="Didot"/>
                <a:ea typeface="Didot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Didot"/>
                <a:ea typeface="Didot"/>
              </a:rPr>
              <a:t>Self-Strengthening </a:t>
            </a:r>
            <a:r>
              <a:rPr b="1" lang="en-US" sz="2200" spc="-1" strike="noStrike">
                <a:solidFill>
                  <a:srgbClr val="000000"/>
                </a:solidFill>
                <a:latin typeface="Didot"/>
                <a:ea typeface="Didot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Didot"/>
                <a:ea typeface="Didot"/>
              </a:rPr>
              <a:t>Movement, and the Boxer </a:t>
            </a:r>
            <a:r>
              <a:rPr b="1" lang="en-US" sz="2200" spc="-1" strike="noStrike">
                <a:solidFill>
                  <a:srgbClr val="000000"/>
                </a:solidFill>
                <a:latin typeface="Didot"/>
                <a:ea typeface="Didot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Didot"/>
                <a:ea typeface="Didot"/>
              </a:rPr>
              <a:t>Rebell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Didot"/>
                <a:ea typeface="Didot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Didot"/>
                <a:ea typeface="Didot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Didot"/>
                <a:ea typeface="Didot"/>
              </a:rPr>
              <a:t>B. Note any themes/trend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Didot"/>
                <a:ea typeface="Didot"/>
              </a:rPr>
              <a:t>            </a:t>
            </a:r>
            <a:r>
              <a:rPr b="1" lang="en-US" sz="2200" spc="-1" strike="noStrike">
                <a:solidFill>
                  <a:srgbClr val="000000"/>
                </a:solidFill>
                <a:latin typeface="Didot"/>
                <a:ea typeface="Didot"/>
              </a:rPr>
              <a:t>Due: L7 (Tues 12/1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Didot"/>
                <a:ea typeface="Didot"/>
              </a:rPr>
              <a:t>2.    Writing Process Portfolio Pre-Writing Check #2 Due L8 (Fri 12/13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3T01:43:54Z</dcterms:created>
  <dc:creator>Technology Department</dc:creator>
  <dc:description/>
  <dc:language>en-US</dc:language>
  <cp:lastModifiedBy>WPS</cp:lastModifiedBy>
  <cp:lastPrinted>2010-11-30T21:01:27Z</cp:lastPrinted>
  <dcterms:modified xsi:type="dcterms:W3CDTF">2013-12-04T17:51:41Z</dcterms:modified>
  <cp:revision>32</cp:revision>
  <dc:subject/>
  <dc:title>PowerPoint Presentation</dc:title>
</cp:coreProperties>
</file>